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notesSlide4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74687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46400" cy="9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22840" y="-360"/>
            <a:ext cx="292248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4640" y="728640"/>
            <a:ext cx="4857840" cy="36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9640" y="4614840"/>
            <a:ext cx="494532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227880"/>
            <a:ext cx="292248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22840" y="9227880"/>
            <a:ext cx="292248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01877-2573-4B70-8744-35D175DFDC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22840" y="9228240"/>
            <a:ext cx="2922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D3165-ECB3-4C87-957B-1443469C5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94464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899640" y="4614840"/>
            <a:ext cx="494532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22840" y="9228240"/>
            <a:ext cx="2922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27ABC-26A0-4023-9F89-90EC15499E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2700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890280" y="4646520"/>
            <a:ext cx="4964040" cy="433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22840" y="9228240"/>
            <a:ext cx="2922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CF610-7F08-4931-9520-BE11F27347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92700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890280" y="4646520"/>
            <a:ext cx="4964040" cy="433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22840" y="9228240"/>
            <a:ext cx="2922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058F1-F4CA-4735-B7BD-1C546C0873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92700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890280" y="4646520"/>
            <a:ext cx="4964040" cy="433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22840" y="9228240"/>
            <a:ext cx="2922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795C3-B7BA-4F4E-AA34-01C1E92DEF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94464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899640" y="4614840"/>
            <a:ext cx="4945320" cy="43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22840" y="9228240"/>
            <a:ext cx="2922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64A24-4BB1-4F53-A0C9-3572B60AEF9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94464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899640" y="4614840"/>
            <a:ext cx="4945320" cy="43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22840" y="9228240"/>
            <a:ext cx="2922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0E77F-F2E3-4E5B-B6C9-00AC01AF800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94464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899640" y="4614840"/>
            <a:ext cx="4945320" cy="43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22840" y="9228240"/>
            <a:ext cx="2922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40152-B734-459F-A625-C686036534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94464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899640" y="4614840"/>
            <a:ext cx="4945320" cy="43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22840" y="9228240"/>
            <a:ext cx="2922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21FD6-68CA-4123-8C38-6741399628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94464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899640" y="4614840"/>
            <a:ext cx="4945320" cy="43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22840" y="9228240"/>
            <a:ext cx="2922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0C61C-B8D7-401D-9799-7533A37CA0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94464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899640" y="4614840"/>
            <a:ext cx="4945320" cy="43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22840" y="9228240"/>
            <a:ext cx="2922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CF5F5-93AD-46E5-9217-93E0E7B54D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92700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890280" y="4646520"/>
            <a:ext cx="4964040" cy="433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22840" y="9228240"/>
            <a:ext cx="2922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D03E9-23D2-4DFF-9D34-81AF2BCA2D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92700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890280" y="4646520"/>
            <a:ext cx="4964040" cy="433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22840" y="9228240"/>
            <a:ext cx="2922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8C210-687E-415D-88B9-2C71A5F89F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92700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890280" y="4646520"/>
            <a:ext cx="4964040" cy="433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22840" y="9228240"/>
            <a:ext cx="2922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ECDCB-D0C6-4CB0-86D4-F88045CACB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94464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899640" y="4614840"/>
            <a:ext cx="4945320" cy="43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22840" y="9228240"/>
            <a:ext cx="2922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09C1F-A534-440C-BF15-F44F911CA76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92700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890280" y="4646520"/>
            <a:ext cx="4964040" cy="433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22840" y="9228240"/>
            <a:ext cx="2922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A0F6E-336A-4383-BEE9-4E58409F1F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92700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890280" y="4646520"/>
            <a:ext cx="4964040" cy="433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22840" y="9228240"/>
            <a:ext cx="2922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E7A60-1D48-45FF-9B06-B75B1C785D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92700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890280" y="4646520"/>
            <a:ext cx="4964040" cy="433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22840" y="9228240"/>
            <a:ext cx="2922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5E22D-B029-4679-96FD-B0E56ABF87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92700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890280" y="4646520"/>
            <a:ext cx="4964040" cy="433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22840" y="9228240"/>
            <a:ext cx="2922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BFE5C-6039-4713-AEF4-6E9BF96FFB3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92700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890280" y="4646520"/>
            <a:ext cx="4964040" cy="433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22840" y="9228240"/>
            <a:ext cx="2922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36746-5762-4E9A-802E-77A01E8097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92700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890280" y="4646520"/>
            <a:ext cx="4964040" cy="433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22840" y="9228240"/>
            <a:ext cx="2922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6B119-3F69-4E74-9725-EBBD7B7459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92700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890280" y="4646520"/>
            <a:ext cx="4964040" cy="433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22840" y="9228240"/>
            <a:ext cx="2922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38CD0-42CD-4F38-A9BE-FDA14204CE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92700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890280" y="4646520"/>
            <a:ext cx="4964040" cy="433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22840" y="9228240"/>
            <a:ext cx="2922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DF0AA-C060-461A-85B3-3F8514841B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92700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890280" y="4646520"/>
            <a:ext cx="4964040" cy="433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22840" y="9228240"/>
            <a:ext cx="2922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B039F-75B6-4BE3-9F2D-A9F2C6FA3A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94464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899640" y="4614840"/>
            <a:ext cx="4945320" cy="43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22840" y="9228240"/>
            <a:ext cx="2922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29C56-C4B7-4914-9181-72B175D5DEE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92700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890280" y="4646520"/>
            <a:ext cx="4964040" cy="433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22840" y="9228240"/>
            <a:ext cx="2922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E0051-1223-4D6A-9F80-BB9770755B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94464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899640" y="4614840"/>
            <a:ext cx="4945320" cy="43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22840" y="9228240"/>
            <a:ext cx="2922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27B2F-DF2F-4FEF-8F5F-E7BD4D144A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92700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890280" y="4646520"/>
            <a:ext cx="4964040" cy="433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22840" y="9228240"/>
            <a:ext cx="2922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A75FD-6452-413C-BE92-FDCF85B44E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94464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899640" y="4614840"/>
            <a:ext cx="494532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22840" y="9228240"/>
            <a:ext cx="2922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1ED18-5C6E-4E09-B6B1-F59CD264C35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92700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90280" y="4646520"/>
            <a:ext cx="4964040" cy="433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22840" y="9228240"/>
            <a:ext cx="2922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B0B38-F0BB-463A-A0A3-A59ADB27FB2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92700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890280" y="4646520"/>
            <a:ext cx="4964040" cy="433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BF21-2339-4154-8F95-F48E3C419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73DA-54CE-4CF3-A9AC-376602FA5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3A26-67B9-4F55-AFEC-D0D002139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6BA0-B5B0-430F-A2C0-EBA1CF6B2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1A3D-8A93-4BA3-94CB-2482F6C39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80F5-7477-4395-827F-BA8703503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CC3B-78DF-4D75-BC91-CD2804A6A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04BB-C22C-40E4-98EA-3AA0E5521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4005-72BE-4B86-B3BC-9860DAB53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3235-277F-4F60-8684-D6ED12AA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7283-2D65-4950-999F-5FE97C53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0CAA-07BD-49FB-9F00-278A0AB9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207B7-6565-4012-A611-A2DD012634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4"/>
          <p:cNvSpPr/>
          <p:nvPr/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A8D74-F445-45D8-8067-042FDF1E1A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143000"/>
            <a:ext cx="7924680" cy="190512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3333cc"/>
                </a:solidFill>
                <a:latin typeface="Times New Roman"/>
              </a:rPr>
              <a:t>Concurrency control abstractions</a:t>
            </a:r>
            <a:br>
              <a:rPr sz="3600"/>
            </a:br>
            <a:r>
              <a:rPr b="0" lang="sv-SE" sz="3600" spc="-1" strike="noStrike">
                <a:solidFill>
                  <a:srgbClr val="3333cc"/>
                </a:solidFill>
                <a:latin typeface="Times New Roman"/>
              </a:rPr>
              <a:t>(PDCS 9, CPE 5*)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Carlos Var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Rennselaer Polytechnic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October 16, 20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* Concurrent Programming in Erlang, by J. Armstrong, R. Virding, C. Wikström, M. Willi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3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ree Product Behavior in AMS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urier New"/>
                <a:ea typeface="Courier New"/>
              </a:rPr>
              <a:t>treepro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c(</a:t>
            </a:r>
            <a:r>
              <a:rPr b="0" lang="el-G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λ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.</a:t>
            </a:r>
            <a:r>
              <a:rPr b="0" lang="el-G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λ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q(if(isnat(tree(m)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nd(cust(m),tree(m)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let newcust=new(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urier New"/>
                <a:ea typeface="Courier New"/>
              </a:rPr>
              <a:t>joinco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cust(m))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lp = new(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urier New"/>
                <a:ea typeface="Courier New"/>
              </a:rPr>
              <a:t>treepro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p = new(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urier New"/>
                <a:ea typeface="Courier New"/>
              </a:rPr>
              <a:t>treepro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q(send(lp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(left(tree(m)),newcust)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nd(rp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(right(tree(m)),newcust)))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y(b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Footer Placeholder 3"/>
          <p:cNvSpPr/>
          <p:nvPr/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99DA5-4C42-4327-ACAA-B0592120A6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Join Continuation in AMS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urier New"/>
                <a:ea typeface="Courier New"/>
              </a:rPr>
              <a:t>joinco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λ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ust.</a:t>
            </a:r>
            <a:r>
              <a:rPr b="0" lang="el-G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λ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irstnum.ready(</a:t>
            </a:r>
            <a:r>
              <a:rPr b="0" lang="el-G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λ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u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q(send(cust,firstnum*num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y(sink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Footer Placeholder 3"/>
          <p:cNvSpPr/>
          <p:nvPr/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12626-0781-470D-AFDE-C72AD34307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ample Execution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2" name="Footer Placeholder 3"/>
          <p:cNvSpPr/>
          <p:nvPr/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1DAEB-7909-4E31-8891-0923AB5FFB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Oval 5"/>
          <p:cNvSpPr/>
          <p:nvPr/>
        </p:nvSpPr>
        <p:spPr>
          <a:xfrm>
            <a:off x="914400" y="4114800"/>
            <a:ext cx="1447920" cy="6094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Group 90"/>
          <p:cNvGrpSpPr/>
          <p:nvPr/>
        </p:nvGrpSpPr>
        <p:grpSpPr>
          <a:xfrm>
            <a:off x="228600" y="1600200"/>
            <a:ext cx="2819520" cy="2133720"/>
            <a:chOff x="228600" y="1600200"/>
            <a:chExt cx="2819520" cy="2133720"/>
          </a:xfrm>
        </p:grpSpPr>
        <p:grpSp>
          <p:nvGrpSpPr>
            <p:cNvPr id="126" name="Group 41"/>
            <p:cNvGrpSpPr/>
            <p:nvPr/>
          </p:nvGrpSpPr>
          <p:grpSpPr>
            <a:xfrm>
              <a:off x="532800" y="2209320"/>
              <a:ext cx="2133720" cy="1066680"/>
              <a:chOff x="532800" y="2209320"/>
              <a:chExt cx="2133720" cy="1066680"/>
            </a:xfrm>
          </p:grpSpPr>
          <p:sp>
            <p:nvSpPr>
              <p:cNvPr id="127" name="Oval 7"/>
              <p:cNvSpPr/>
              <p:nvPr/>
            </p:nvSpPr>
            <p:spPr>
              <a:xfrm flipH="1" flipV="1">
                <a:off x="1751760" y="22089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Oval 8"/>
              <p:cNvSpPr/>
              <p:nvPr/>
            </p:nvSpPr>
            <p:spPr>
              <a:xfrm flipH="1" flipV="1">
                <a:off x="1294560" y="25135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Oval 9"/>
              <p:cNvSpPr/>
              <p:nvPr/>
            </p:nvSpPr>
            <p:spPr>
              <a:xfrm flipH="1" flipV="1">
                <a:off x="837000" y="28947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Oval 10"/>
              <p:cNvSpPr/>
              <p:nvPr/>
            </p:nvSpPr>
            <p:spPr>
              <a:xfrm flipH="1" flipV="1">
                <a:off x="532440" y="319968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Oval 11"/>
              <p:cNvSpPr/>
              <p:nvPr/>
            </p:nvSpPr>
            <p:spPr>
              <a:xfrm flipH="1" flipV="1">
                <a:off x="1065600" y="319968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Oval 12"/>
              <p:cNvSpPr/>
              <p:nvPr/>
            </p:nvSpPr>
            <p:spPr>
              <a:xfrm flipH="1" flipV="1">
                <a:off x="1599120" y="28947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Oval 13"/>
              <p:cNvSpPr/>
              <p:nvPr/>
            </p:nvSpPr>
            <p:spPr>
              <a:xfrm flipH="1" flipV="1">
                <a:off x="2285280" y="25135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Oval 14"/>
              <p:cNvSpPr/>
              <p:nvPr/>
            </p:nvSpPr>
            <p:spPr>
              <a:xfrm flipH="1" flipV="1">
                <a:off x="2056680" y="28947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Oval 15"/>
              <p:cNvSpPr/>
              <p:nvPr/>
            </p:nvSpPr>
            <p:spPr>
              <a:xfrm flipH="1" flipV="1">
                <a:off x="2590200" y="28947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Straight Connector 17"/>
              <p:cNvSpPr/>
              <p:nvPr/>
            </p:nvSpPr>
            <p:spPr>
              <a:xfrm flipH="1">
                <a:off x="1360080" y="2274480"/>
                <a:ext cx="403200" cy="250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Straight Connector 19"/>
              <p:cNvSpPr/>
              <p:nvPr/>
            </p:nvSpPr>
            <p:spPr>
              <a:xfrm flipH="1">
                <a:off x="902880" y="2579400"/>
                <a:ext cx="403200" cy="326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Straight Connector 22"/>
              <p:cNvSpPr/>
              <p:nvPr/>
            </p:nvSpPr>
            <p:spPr>
              <a:xfrm flipH="1">
                <a:off x="597600" y="2960640"/>
                <a:ext cx="250920" cy="250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Straight Connector 26"/>
              <p:cNvSpPr/>
              <p:nvPr/>
            </p:nvSpPr>
            <p:spPr>
              <a:xfrm>
                <a:off x="902880" y="2960640"/>
                <a:ext cx="174600" cy="250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Straight Connector 29"/>
              <p:cNvSpPr/>
              <p:nvPr/>
            </p:nvSpPr>
            <p:spPr>
              <a:xfrm>
                <a:off x="1360080" y="2579400"/>
                <a:ext cx="250920" cy="326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Straight Connector 32"/>
              <p:cNvSpPr/>
              <p:nvPr/>
            </p:nvSpPr>
            <p:spPr>
              <a:xfrm>
                <a:off x="1817640" y="2274480"/>
                <a:ext cx="479520" cy="250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Straight Connector 35"/>
              <p:cNvSpPr/>
              <p:nvPr/>
            </p:nvSpPr>
            <p:spPr>
              <a:xfrm flipV="1">
                <a:off x="2095560" y="2590560"/>
                <a:ext cx="22860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Straight Connector 38"/>
              <p:cNvSpPr/>
              <p:nvPr/>
            </p:nvSpPr>
            <p:spPr>
              <a:xfrm flipH="1" flipV="1">
                <a:off x="2351160" y="2579040"/>
                <a:ext cx="277920" cy="315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Group 89"/>
            <p:cNvGrpSpPr/>
            <p:nvPr/>
          </p:nvGrpSpPr>
          <p:grpSpPr>
            <a:xfrm>
              <a:off x="228600" y="1600200"/>
              <a:ext cx="2819520" cy="2133720"/>
              <a:chOff x="228600" y="1600200"/>
              <a:chExt cx="2819520" cy="2133720"/>
            </a:xfrm>
          </p:grpSpPr>
          <p:sp>
            <p:nvSpPr>
              <p:cNvPr id="145" name="Oval 6"/>
              <p:cNvSpPr/>
              <p:nvPr/>
            </p:nvSpPr>
            <p:spPr>
              <a:xfrm>
                <a:off x="228600" y="2057400"/>
                <a:ext cx="2819520" cy="16765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TextBox 42"/>
              <p:cNvSpPr/>
              <p:nvPr/>
            </p:nvSpPr>
            <p:spPr>
              <a:xfrm>
                <a:off x="228600" y="1600200"/>
                <a:ext cx="1524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f(tree,cust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7" name="Straight Connector 44"/>
          <p:cNvSpPr/>
          <p:nvPr/>
        </p:nvSpPr>
        <p:spPr>
          <a:xfrm>
            <a:off x="4191120" y="1447920"/>
            <a:ext cx="0" cy="472428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91"/>
          <p:cNvGrpSpPr/>
          <p:nvPr/>
        </p:nvGrpSpPr>
        <p:grpSpPr>
          <a:xfrm>
            <a:off x="4419720" y="2209680"/>
            <a:ext cx="4190760" cy="2514600"/>
            <a:chOff x="4419720" y="2209680"/>
            <a:chExt cx="4190760" cy="2514600"/>
          </a:xfrm>
        </p:grpSpPr>
        <p:grpSp>
          <p:nvGrpSpPr>
            <p:cNvPr id="149" name="Group 45"/>
            <p:cNvGrpSpPr/>
            <p:nvPr/>
          </p:nvGrpSpPr>
          <p:grpSpPr>
            <a:xfrm>
              <a:off x="4571640" y="2513880"/>
              <a:ext cx="1143000" cy="761760"/>
              <a:chOff x="4571640" y="2513880"/>
              <a:chExt cx="1143000" cy="761760"/>
            </a:xfrm>
          </p:grpSpPr>
          <p:sp>
            <p:nvSpPr>
              <p:cNvPr id="150" name="Oval 47"/>
              <p:cNvSpPr/>
              <p:nvPr/>
            </p:nvSpPr>
            <p:spPr>
              <a:xfrm flipH="1" flipV="1">
                <a:off x="5333400" y="25135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Oval 48"/>
              <p:cNvSpPr/>
              <p:nvPr/>
            </p:nvSpPr>
            <p:spPr>
              <a:xfrm flipH="1" flipV="1">
                <a:off x="4875840" y="28944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Oval 49"/>
              <p:cNvSpPr/>
              <p:nvPr/>
            </p:nvSpPr>
            <p:spPr>
              <a:xfrm flipH="1" flipV="1">
                <a:off x="4571280" y="31993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Oval 50"/>
              <p:cNvSpPr/>
              <p:nvPr/>
            </p:nvSpPr>
            <p:spPr>
              <a:xfrm flipH="1" flipV="1">
                <a:off x="5104800" y="31993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Oval 51"/>
              <p:cNvSpPr/>
              <p:nvPr/>
            </p:nvSpPr>
            <p:spPr>
              <a:xfrm flipH="1" flipV="1">
                <a:off x="5638320" y="28944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Straight Connector 56"/>
              <p:cNvSpPr/>
              <p:nvPr/>
            </p:nvSpPr>
            <p:spPr>
              <a:xfrm flipH="1">
                <a:off x="4941720" y="2579040"/>
                <a:ext cx="403200" cy="326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Straight Connector 57"/>
              <p:cNvSpPr/>
              <p:nvPr/>
            </p:nvSpPr>
            <p:spPr>
              <a:xfrm flipH="1">
                <a:off x="4636440" y="2960280"/>
                <a:ext cx="250920" cy="250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Straight Connector 58"/>
              <p:cNvSpPr/>
              <p:nvPr/>
            </p:nvSpPr>
            <p:spPr>
              <a:xfrm>
                <a:off x="4941720" y="2960280"/>
                <a:ext cx="174600" cy="250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Straight Connector 59"/>
              <p:cNvSpPr/>
              <p:nvPr/>
            </p:nvSpPr>
            <p:spPr>
              <a:xfrm>
                <a:off x="5399280" y="2579040"/>
                <a:ext cx="250920" cy="326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Group 63"/>
            <p:cNvGrpSpPr/>
            <p:nvPr/>
          </p:nvGrpSpPr>
          <p:grpSpPr>
            <a:xfrm>
              <a:off x="6781320" y="2590200"/>
              <a:ext cx="609480" cy="380880"/>
              <a:chOff x="6781320" y="2590200"/>
              <a:chExt cx="609480" cy="380880"/>
            </a:xfrm>
          </p:grpSpPr>
          <p:sp>
            <p:nvSpPr>
              <p:cNvPr id="160" name="Oval 65"/>
              <p:cNvSpPr/>
              <p:nvPr/>
            </p:nvSpPr>
            <p:spPr>
              <a:xfrm flipH="1" flipV="1">
                <a:off x="7085880" y="25898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Oval 66"/>
              <p:cNvSpPr/>
              <p:nvPr/>
            </p:nvSpPr>
            <p:spPr>
              <a:xfrm flipH="1" flipV="1">
                <a:off x="6780960" y="28947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Oval 67"/>
              <p:cNvSpPr/>
              <p:nvPr/>
            </p:nvSpPr>
            <p:spPr>
              <a:xfrm flipH="1" flipV="1">
                <a:off x="7314480" y="28947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Straight Connector 70"/>
              <p:cNvSpPr/>
              <p:nvPr/>
            </p:nvSpPr>
            <p:spPr>
              <a:xfrm flipH="1">
                <a:off x="6846120" y="2655360"/>
                <a:ext cx="250920" cy="250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Straight Connector 71"/>
              <p:cNvSpPr/>
              <p:nvPr/>
            </p:nvSpPr>
            <p:spPr>
              <a:xfrm>
                <a:off x="7151400" y="2655360"/>
                <a:ext cx="174600" cy="250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" name="Oval 73"/>
            <p:cNvSpPr/>
            <p:nvPr/>
          </p:nvSpPr>
          <p:spPr>
            <a:xfrm>
              <a:off x="4419720" y="2209680"/>
              <a:ext cx="1828800" cy="15238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Oval 74"/>
            <p:cNvSpPr/>
            <p:nvPr/>
          </p:nvSpPr>
          <p:spPr>
            <a:xfrm>
              <a:off x="6477120" y="2209680"/>
              <a:ext cx="1828800" cy="15238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75"/>
            <p:cNvSpPr/>
            <p:nvPr/>
          </p:nvSpPr>
          <p:spPr>
            <a:xfrm>
              <a:off x="5334120" y="3047760"/>
              <a:ext cx="60948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J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76"/>
            <p:cNvSpPr/>
            <p:nvPr/>
          </p:nvSpPr>
          <p:spPr>
            <a:xfrm>
              <a:off x="7467480" y="3047760"/>
              <a:ext cx="60948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J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Oval 78"/>
            <p:cNvSpPr/>
            <p:nvPr/>
          </p:nvSpPr>
          <p:spPr>
            <a:xfrm>
              <a:off x="4572000" y="4114800"/>
              <a:ext cx="1447560" cy="6094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u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Oval 79"/>
            <p:cNvSpPr/>
            <p:nvPr/>
          </p:nvSpPr>
          <p:spPr>
            <a:xfrm>
              <a:off x="6705720" y="4114800"/>
              <a:ext cx="1447560" cy="6094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u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Rectangle 80"/>
            <p:cNvSpPr/>
            <p:nvPr/>
          </p:nvSpPr>
          <p:spPr>
            <a:xfrm>
              <a:off x="7162920" y="4267080"/>
              <a:ext cx="609480" cy="304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TextBox 81"/>
            <p:cNvSpPr/>
            <p:nvPr/>
          </p:nvSpPr>
          <p:spPr>
            <a:xfrm>
              <a:off x="8153280" y="417204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J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TextBox 82"/>
          <p:cNvSpPr/>
          <p:nvPr/>
        </p:nvSpPr>
        <p:spPr>
          <a:xfrm>
            <a:off x="1523880" y="54100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Box 83"/>
          <p:cNvSpPr/>
          <p:nvPr/>
        </p:nvSpPr>
        <p:spPr>
          <a:xfrm>
            <a:off x="6095880" y="54100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Box 42"/>
          <p:cNvSpPr/>
          <p:nvPr/>
        </p:nvSpPr>
        <p:spPr>
          <a:xfrm>
            <a:off x="4495680" y="17524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(left(tree),J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Box 42"/>
          <p:cNvSpPr/>
          <p:nvPr/>
        </p:nvSpPr>
        <p:spPr>
          <a:xfrm>
            <a:off x="6858000" y="17524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(right(tree),J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ample Execution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8" name="Footer Placeholder 3"/>
          <p:cNvSpPr/>
          <p:nvPr/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09710-3186-445F-BA4E-1288CE131C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Oval 24"/>
          <p:cNvSpPr/>
          <p:nvPr/>
        </p:nvSpPr>
        <p:spPr>
          <a:xfrm>
            <a:off x="380880" y="3886200"/>
            <a:ext cx="1447920" cy="6094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Group 31"/>
          <p:cNvGrpSpPr/>
          <p:nvPr/>
        </p:nvGrpSpPr>
        <p:grpSpPr>
          <a:xfrm>
            <a:off x="380880" y="1752480"/>
            <a:ext cx="3200400" cy="1905120"/>
            <a:chOff x="380880" y="1752480"/>
            <a:chExt cx="3200400" cy="1905120"/>
          </a:xfrm>
        </p:grpSpPr>
        <p:grpSp>
          <p:nvGrpSpPr>
            <p:cNvPr id="182" name="Group 25"/>
            <p:cNvGrpSpPr/>
            <p:nvPr/>
          </p:nvGrpSpPr>
          <p:grpSpPr>
            <a:xfrm>
              <a:off x="380880" y="1752480"/>
              <a:ext cx="3200400" cy="1905120"/>
              <a:chOff x="380880" y="1752480"/>
              <a:chExt cx="3200400" cy="1905120"/>
            </a:xfrm>
          </p:grpSpPr>
          <p:grpSp>
            <p:nvGrpSpPr>
              <p:cNvPr id="183" name="Group 11"/>
              <p:cNvGrpSpPr/>
              <p:nvPr/>
            </p:nvGrpSpPr>
            <p:grpSpPr>
              <a:xfrm>
                <a:off x="913680" y="2133000"/>
                <a:ext cx="380880" cy="304560"/>
                <a:chOff x="913680" y="2133000"/>
                <a:chExt cx="380880" cy="304560"/>
              </a:xfrm>
            </p:grpSpPr>
            <p:sp>
              <p:nvSpPr>
                <p:cNvPr id="184" name="Oval 12"/>
                <p:cNvSpPr/>
                <p:nvPr/>
              </p:nvSpPr>
              <p:spPr>
                <a:xfrm flipH="1" flipV="1">
                  <a:off x="1065600" y="213264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Oval 13"/>
                <p:cNvSpPr/>
                <p:nvPr/>
              </p:nvSpPr>
              <p:spPr>
                <a:xfrm flipH="1" flipV="1">
                  <a:off x="913320" y="236124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Oval 14"/>
                <p:cNvSpPr/>
                <p:nvPr/>
              </p:nvSpPr>
              <p:spPr>
                <a:xfrm flipH="1" flipV="1">
                  <a:off x="1218240" y="236124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Straight Connector 15"/>
                <p:cNvSpPr/>
                <p:nvPr/>
              </p:nvSpPr>
              <p:spPr>
                <a:xfrm flipH="1">
                  <a:off x="978480" y="2198160"/>
                  <a:ext cx="98280" cy="174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Straight Connector 16"/>
                <p:cNvSpPr/>
                <p:nvPr/>
              </p:nvSpPr>
              <p:spPr>
                <a:xfrm>
                  <a:off x="1131480" y="2198160"/>
                  <a:ext cx="98280" cy="174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9" name="Oval 17"/>
              <p:cNvSpPr/>
              <p:nvPr/>
            </p:nvSpPr>
            <p:spPr>
              <a:xfrm>
                <a:off x="380880" y="1752480"/>
                <a:ext cx="3200400" cy="1905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Oval 18"/>
              <p:cNvSpPr/>
              <p:nvPr/>
            </p:nvSpPr>
            <p:spPr>
              <a:xfrm>
                <a:off x="838080" y="1904760"/>
                <a:ext cx="1066680" cy="8380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Oval 19"/>
              <p:cNvSpPr/>
              <p:nvPr/>
            </p:nvSpPr>
            <p:spPr>
              <a:xfrm>
                <a:off x="2057400" y="1904760"/>
                <a:ext cx="1066680" cy="8380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Oval 20"/>
              <p:cNvSpPr/>
              <p:nvPr/>
            </p:nvSpPr>
            <p:spPr>
              <a:xfrm>
                <a:off x="2133360" y="2819520"/>
                <a:ext cx="914400" cy="6858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" name="Rectangle 26"/>
            <p:cNvSpPr/>
            <p:nvPr/>
          </p:nvSpPr>
          <p:spPr>
            <a:xfrm>
              <a:off x="1371240" y="2209680"/>
              <a:ext cx="457200" cy="304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C</a:t>
              </a:r>
              <a:r>
                <a:rPr b="0" lang="ja-JP" sz="1400" spc="-1" strike="noStrike" baseline="30000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Rectangle 27"/>
            <p:cNvSpPr/>
            <p:nvPr/>
          </p:nvSpPr>
          <p:spPr>
            <a:xfrm>
              <a:off x="2514600" y="2209680"/>
              <a:ext cx="457200" cy="304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C</a:t>
              </a:r>
              <a:r>
                <a:rPr b="0" lang="ja-JP" sz="1400" spc="-1" strike="noStrike" baseline="30000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Oval 28"/>
            <p:cNvSpPr/>
            <p:nvPr/>
          </p:nvSpPr>
          <p:spPr>
            <a:xfrm flipH="1" flipV="1">
              <a:off x="2285280" y="2132640"/>
              <a:ext cx="75960" cy="759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Rectangle 30"/>
            <p:cNvSpPr/>
            <p:nvPr/>
          </p:nvSpPr>
          <p:spPr>
            <a:xfrm>
              <a:off x="2286000" y="2971800"/>
              <a:ext cx="60948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J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Oval 33"/>
          <p:cNvSpPr/>
          <p:nvPr/>
        </p:nvSpPr>
        <p:spPr>
          <a:xfrm>
            <a:off x="1828800" y="4495680"/>
            <a:ext cx="1447920" cy="609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34"/>
          <p:cNvSpPr/>
          <p:nvPr/>
        </p:nvSpPr>
        <p:spPr>
          <a:xfrm>
            <a:off x="2209680" y="4572000"/>
            <a:ext cx="685800" cy="45720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35"/>
          <p:cNvSpPr/>
          <p:nvPr/>
        </p:nvSpPr>
        <p:spPr>
          <a:xfrm>
            <a:off x="3276720" y="44956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arallelogram 36"/>
          <p:cNvSpPr/>
          <p:nvPr/>
        </p:nvSpPr>
        <p:spPr>
          <a:xfrm>
            <a:off x="2590920" y="3733920"/>
            <a:ext cx="1523880" cy="457200"/>
          </a:xfrm>
          <a:prstGeom prst="parallelogram">
            <a:avLst>
              <a:gd name="adj" fmla="val 24998"/>
            </a:avLst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Straight Arrow Connector 38"/>
          <p:cNvCxnSpPr/>
          <p:nvPr/>
        </p:nvCxnSpPr>
        <p:spPr>
          <a:xfrm flipH="1">
            <a:off x="2894760" y="4190760"/>
            <a:ext cx="229320" cy="369000"/>
          </a:xfrm>
          <a:prstGeom prst="straightConnector1">
            <a:avLst/>
          </a:prstGeom>
          <a:ln w="25560">
            <a:solidFill>
              <a:srgbClr val="000000"/>
            </a:solidFill>
            <a:prstDash val="sysDash"/>
            <a:miter/>
            <a:tailEnd len="med" type="arrow" w="med"/>
          </a:ln>
        </p:spPr>
      </p:cxnSp>
      <p:sp>
        <p:nvSpPr>
          <p:cNvPr id="202" name="TextBox 42"/>
          <p:cNvSpPr/>
          <p:nvPr/>
        </p:nvSpPr>
        <p:spPr>
          <a:xfrm>
            <a:off x="1447920" y="53910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Straight Connector 43"/>
          <p:cNvSpPr/>
          <p:nvPr/>
        </p:nvSpPr>
        <p:spPr>
          <a:xfrm>
            <a:off x="4191120" y="1447920"/>
            <a:ext cx="0" cy="472428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Group 44"/>
          <p:cNvGrpSpPr/>
          <p:nvPr/>
        </p:nvGrpSpPr>
        <p:grpSpPr>
          <a:xfrm>
            <a:off x="4952880" y="1676520"/>
            <a:ext cx="3276720" cy="1981080"/>
            <a:chOff x="4952880" y="1676520"/>
            <a:chExt cx="3276720" cy="1981080"/>
          </a:xfrm>
        </p:grpSpPr>
        <p:grpSp>
          <p:nvGrpSpPr>
            <p:cNvPr id="205" name="Group 25"/>
            <p:cNvGrpSpPr/>
            <p:nvPr/>
          </p:nvGrpSpPr>
          <p:grpSpPr>
            <a:xfrm>
              <a:off x="4952880" y="1676520"/>
              <a:ext cx="3276720" cy="1981080"/>
              <a:chOff x="4952880" y="1676520"/>
              <a:chExt cx="3276720" cy="1981080"/>
            </a:xfrm>
          </p:grpSpPr>
          <p:grpSp>
            <p:nvGrpSpPr>
              <p:cNvPr id="206" name="Group 11"/>
              <p:cNvGrpSpPr/>
              <p:nvPr/>
            </p:nvGrpSpPr>
            <p:grpSpPr>
              <a:xfrm>
                <a:off x="5485680" y="2133360"/>
                <a:ext cx="380880" cy="304560"/>
                <a:chOff x="5485680" y="2133360"/>
                <a:chExt cx="380880" cy="304560"/>
              </a:xfrm>
            </p:grpSpPr>
            <p:sp>
              <p:nvSpPr>
                <p:cNvPr id="207" name="Oval 57"/>
                <p:cNvSpPr/>
                <p:nvPr/>
              </p:nvSpPr>
              <p:spPr>
                <a:xfrm flipH="1" flipV="1">
                  <a:off x="5637600" y="21330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Oval 58"/>
                <p:cNvSpPr/>
                <p:nvPr/>
              </p:nvSpPr>
              <p:spPr>
                <a:xfrm flipH="1" flipV="1">
                  <a:off x="5485320" y="23616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Oval 59"/>
                <p:cNvSpPr/>
                <p:nvPr/>
              </p:nvSpPr>
              <p:spPr>
                <a:xfrm flipH="1" flipV="1">
                  <a:off x="5790240" y="23616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Straight Connector 60"/>
                <p:cNvSpPr/>
                <p:nvPr/>
              </p:nvSpPr>
              <p:spPr>
                <a:xfrm flipH="1">
                  <a:off x="5550480" y="2198520"/>
                  <a:ext cx="98280" cy="174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Straight Connector 61"/>
                <p:cNvSpPr/>
                <p:nvPr/>
              </p:nvSpPr>
              <p:spPr>
                <a:xfrm>
                  <a:off x="5703480" y="2198520"/>
                  <a:ext cx="98280" cy="174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2" name="Oval 52"/>
              <p:cNvSpPr/>
              <p:nvPr/>
            </p:nvSpPr>
            <p:spPr>
              <a:xfrm>
                <a:off x="4952880" y="1676520"/>
                <a:ext cx="3276720" cy="19810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Oval 53"/>
              <p:cNvSpPr/>
              <p:nvPr/>
            </p:nvSpPr>
            <p:spPr>
              <a:xfrm>
                <a:off x="5410080" y="1905120"/>
                <a:ext cx="1066680" cy="8380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Oval 55"/>
              <p:cNvSpPr/>
              <p:nvPr/>
            </p:nvSpPr>
            <p:spPr>
              <a:xfrm>
                <a:off x="6476760" y="2666880"/>
                <a:ext cx="1523880" cy="7617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" name="Rectangle 46"/>
            <p:cNvSpPr/>
            <p:nvPr/>
          </p:nvSpPr>
          <p:spPr>
            <a:xfrm>
              <a:off x="5943600" y="2209680"/>
              <a:ext cx="457200" cy="304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JC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Rectangle 50"/>
            <p:cNvSpPr/>
            <p:nvPr/>
          </p:nvSpPr>
          <p:spPr>
            <a:xfrm>
              <a:off x="6705720" y="2743200"/>
              <a:ext cx="1066680" cy="304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J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Parallelogram 62"/>
          <p:cNvSpPr/>
          <p:nvPr/>
        </p:nvSpPr>
        <p:spPr>
          <a:xfrm>
            <a:off x="6629400" y="2133720"/>
            <a:ext cx="1295280" cy="380880"/>
          </a:xfrm>
          <a:prstGeom prst="parallelogram">
            <a:avLst>
              <a:gd name="adj" fmla="val 25002"/>
            </a:avLst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rstn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8" name="Straight Arrow Connector 63"/>
          <p:cNvCxnSpPr>
            <a:stCxn id="217" idx="3"/>
            <a:endCxn id="216" idx="0"/>
          </p:cNvCxnSpPr>
          <p:nvPr/>
        </p:nvCxnSpPr>
        <p:spPr>
          <a:xfrm>
            <a:off x="7229520" y="2514240"/>
            <a:ext cx="10080" cy="229320"/>
          </a:xfrm>
          <a:prstGeom prst="straightConnector1">
            <a:avLst/>
          </a:prstGeom>
          <a:ln w="25560">
            <a:solidFill>
              <a:srgbClr val="000000"/>
            </a:solidFill>
            <a:prstDash val="sysDash"/>
            <a:miter/>
            <a:tailEnd len="med" type="arrow" w="med"/>
          </a:ln>
        </p:spPr>
      </p:cxnSp>
      <p:sp>
        <p:nvSpPr>
          <p:cNvPr id="219" name="Rectangle 68"/>
          <p:cNvSpPr/>
          <p:nvPr/>
        </p:nvSpPr>
        <p:spPr>
          <a:xfrm>
            <a:off x="6705720" y="3048120"/>
            <a:ext cx="1066680" cy="30456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rst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Box 69"/>
          <p:cNvSpPr/>
          <p:nvPr/>
        </p:nvSpPr>
        <p:spPr>
          <a:xfrm>
            <a:off x="7696080" y="255744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C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Oval 70"/>
          <p:cNvSpPr/>
          <p:nvPr/>
        </p:nvSpPr>
        <p:spPr>
          <a:xfrm>
            <a:off x="4648320" y="3886200"/>
            <a:ext cx="1447560" cy="6094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Oval 72"/>
          <p:cNvSpPr/>
          <p:nvPr/>
        </p:nvSpPr>
        <p:spPr>
          <a:xfrm>
            <a:off x="6400800" y="3657600"/>
            <a:ext cx="1981080" cy="12193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73"/>
          <p:cNvSpPr/>
          <p:nvPr/>
        </p:nvSpPr>
        <p:spPr>
          <a:xfrm>
            <a:off x="6629400" y="3886200"/>
            <a:ext cx="1523880" cy="38088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74"/>
          <p:cNvSpPr/>
          <p:nvPr/>
        </p:nvSpPr>
        <p:spPr>
          <a:xfrm>
            <a:off x="6629400" y="4267080"/>
            <a:ext cx="1523880" cy="38124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Box 75"/>
          <p:cNvSpPr/>
          <p:nvPr/>
        </p:nvSpPr>
        <p:spPr>
          <a:xfrm>
            <a:off x="8153280" y="36576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Box 76"/>
          <p:cNvSpPr/>
          <p:nvPr/>
        </p:nvSpPr>
        <p:spPr>
          <a:xfrm>
            <a:off x="6019920" y="54100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Box 2"/>
          <p:cNvSpPr/>
          <p:nvPr/>
        </p:nvSpPr>
        <p:spPr>
          <a:xfrm>
            <a:off x="2979360" y="2743200"/>
            <a:ext cx="49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Box 42"/>
          <p:cNvSpPr/>
          <p:nvPr/>
        </p:nvSpPr>
        <p:spPr>
          <a:xfrm>
            <a:off x="152280" y="12952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(left(tree),J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ample Execution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0" name="Footer Placeholder 3"/>
          <p:cNvSpPr/>
          <p:nvPr/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D06D7-65C7-431B-90BA-FD7C6C3E5B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Group 23"/>
          <p:cNvGrpSpPr/>
          <p:nvPr/>
        </p:nvGrpSpPr>
        <p:grpSpPr>
          <a:xfrm>
            <a:off x="838080" y="1752480"/>
            <a:ext cx="2743200" cy="1981440"/>
            <a:chOff x="838080" y="1752480"/>
            <a:chExt cx="2743200" cy="1981440"/>
          </a:xfrm>
        </p:grpSpPr>
        <p:sp>
          <p:nvSpPr>
            <p:cNvPr id="233" name="Parallelogram 10"/>
            <p:cNvSpPr/>
            <p:nvPr/>
          </p:nvSpPr>
          <p:spPr>
            <a:xfrm>
              <a:off x="838080" y="1752480"/>
              <a:ext cx="1066680" cy="457200"/>
            </a:xfrm>
            <a:prstGeom prst="parallelogram">
              <a:avLst>
                <a:gd name="adj" fmla="val 24994"/>
              </a:avLst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4" name="Straight Arrow Connector 11"/>
            <p:cNvCxnSpPr>
              <a:stCxn id="233" idx="4"/>
              <a:endCxn id="235" idx="1"/>
            </p:cNvCxnSpPr>
            <p:nvPr/>
          </p:nvCxnSpPr>
          <p:spPr>
            <a:xfrm>
              <a:off x="1370880" y="2209320"/>
              <a:ext cx="519480" cy="484200"/>
            </a:xfrm>
            <a:prstGeom prst="straightConnector1">
              <a:avLst/>
            </a:prstGeom>
            <a:ln w="25560">
              <a:solidFill>
                <a:srgbClr val="000000"/>
              </a:solidFill>
              <a:prstDash val="sysDash"/>
              <a:miter/>
              <a:tailEnd len="med" type="arrow" w="med"/>
            </a:ln>
          </p:spPr>
        </p:cxnSp>
        <p:grpSp>
          <p:nvGrpSpPr>
            <p:cNvPr id="236" name="Group 22"/>
            <p:cNvGrpSpPr/>
            <p:nvPr/>
          </p:nvGrpSpPr>
          <p:grpSpPr>
            <a:xfrm>
              <a:off x="1599840" y="2514600"/>
              <a:ext cx="1981440" cy="1219320"/>
              <a:chOff x="1599840" y="2514600"/>
              <a:chExt cx="1981440" cy="1219320"/>
            </a:xfrm>
          </p:grpSpPr>
          <p:sp>
            <p:nvSpPr>
              <p:cNvPr id="235" name="Oval 14"/>
              <p:cNvSpPr/>
              <p:nvPr/>
            </p:nvSpPr>
            <p:spPr>
              <a:xfrm>
                <a:off x="1599840" y="2514600"/>
                <a:ext cx="1981440" cy="1219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7" name="Group 21"/>
              <p:cNvGrpSpPr/>
              <p:nvPr/>
            </p:nvGrpSpPr>
            <p:grpSpPr>
              <a:xfrm>
                <a:off x="1904400" y="2666880"/>
                <a:ext cx="1371960" cy="914400"/>
                <a:chOff x="1904400" y="2666880"/>
                <a:chExt cx="1371960" cy="914400"/>
              </a:xfrm>
            </p:grpSpPr>
            <p:sp>
              <p:nvSpPr>
                <p:cNvPr id="238" name="Rectangle 16"/>
                <p:cNvSpPr/>
                <p:nvPr/>
              </p:nvSpPr>
              <p:spPr>
                <a:xfrm>
                  <a:off x="1904400" y="2666880"/>
                  <a:ext cx="1371960" cy="45720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Cus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Rectangle 17"/>
                <p:cNvSpPr/>
                <p:nvPr/>
              </p:nvSpPr>
              <p:spPr>
                <a:xfrm>
                  <a:off x="1904400" y="3124080"/>
                  <a:ext cx="1371960" cy="45720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firstnum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40" name="Oval 24"/>
          <p:cNvSpPr/>
          <p:nvPr/>
        </p:nvSpPr>
        <p:spPr>
          <a:xfrm>
            <a:off x="380880" y="3505320"/>
            <a:ext cx="1295640" cy="761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Box 25"/>
          <p:cNvSpPr/>
          <p:nvPr/>
        </p:nvSpPr>
        <p:spPr>
          <a:xfrm>
            <a:off x="2895480" y="220968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Straight Connector 28"/>
          <p:cNvSpPr/>
          <p:nvPr/>
        </p:nvSpPr>
        <p:spPr>
          <a:xfrm>
            <a:off x="4191120" y="1447920"/>
            <a:ext cx="0" cy="472428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Box 29"/>
          <p:cNvSpPr/>
          <p:nvPr/>
        </p:nvSpPr>
        <p:spPr>
          <a:xfrm>
            <a:off x="1447920" y="53910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arallelogram 30"/>
          <p:cNvSpPr/>
          <p:nvPr/>
        </p:nvSpPr>
        <p:spPr>
          <a:xfrm>
            <a:off x="5334120" y="2286000"/>
            <a:ext cx="2438280" cy="457200"/>
          </a:xfrm>
          <a:prstGeom prst="parallelogram">
            <a:avLst>
              <a:gd name="adj" fmla="val 25011"/>
            </a:avLst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num * 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5" name="Straight Arrow Connector 31"/>
          <p:cNvCxnSpPr>
            <a:stCxn id="244" idx="3"/>
            <a:endCxn id="246" idx="0"/>
          </p:cNvCxnSpPr>
          <p:nvPr/>
        </p:nvCxnSpPr>
        <p:spPr>
          <a:xfrm flipH="1">
            <a:off x="6438240" y="2742840"/>
            <a:ext cx="57960" cy="762840"/>
          </a:xfrm>
          <a:prstGeom prst="straightConnector1">
            <a:avLst/>
          </a:prstGeom>
          <a:ln w="25560">
            <a:solidFill>
              <a:srgbClr val="000000"/>
            </a:solidFill>
            <a:prstDash val="sysDash"/>
            <a:miter/>
            <a:tailEnd len="med" type="arrow" w="med"/>
          </a:ln>
        </p:spPr>
      </p:cxnSp>
      <p:sp>
        <p:nvSpPr>
          <p:cNvPr id="246" name="Oval 35"/>
          <p:cNvSpPr/>
          <p:nvPr/>
        </p:nvSpPr>
        <p:spPr>
          <a:xfrm>
            <a:off x="5791320" y="3505320"/>
            <a:ext cx="1295280" cy="761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Box 37"/>
          <p:cNvSpPr/>
          <p:nvPr/>
        </p:nvSpPr>
        <p:spPr>
          <a:xfrm>
            <a:off x="6019920" y="54100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ooter Placeholder 4"/>
          <p:cNvSpPr/>
          <p:nvPr/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.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AB5BC-519B-43AC-BD07-7628BA4E3A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ree Product Behavior in SALSA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modul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treeprod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d2db9"/>
                </a:solidFill>
                <a:latin typeface="Courier New"/>
              </a:rPr>
              <a:t>behavio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TreeProduct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2d2db9"/>
                </a:solidFill>
                <a:latin typeface="Courier New"/>
              </a:rPr>
              <a:t>voi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comput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Tre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t,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UniversalAct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t.isLeaf()) c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&lt;-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sult(t.value(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JoinCo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ewCust =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new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JoinCont(c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TreeProduc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p =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new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TreeProduc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TreeProduc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p =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new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TreeProduc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p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&lt;-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pute(t.left(), newCus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p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&lt;-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pute(t.right(), newCus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4"/>
          <p:cNvSpPr/>
          <p:nvPr/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.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0FD1A-2830-46A3-89A9-BBEEEE2123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Join Continuation in SALSA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modul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treeprod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behavio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JoinCont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UniversalAct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s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irs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boolea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ceivedFirs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JoinCon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UniversalAct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st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his.cust = cus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his.receivedFirst = fals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voi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resul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int v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!receivedFirst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irst = v; receivedFirst = tru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lse // receiving second 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st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&lt;-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sult(first*v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ree Product Behavior in Erlang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module(treeprod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export([treeprod/0,join/1]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eeprod() -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{Left, Right}, Customer} -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ewCust = spawn(treeprod,join,[Customer]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P = spawn(treeprod,treeprod,[]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P = spawn(treeprod,treeprod,[]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P!{Left,NewCust}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P!{Right,NewCust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Number, Customer} -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ustomer ! 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eeprod(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oin(Customer) -&gt; receive V1 -&gt; receive V2 -&gt; Customer ! V1*V2 end en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Footer Placeholder 3"/>
          <p:cNvSpPr/>
          <p:nvPr/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95755-A81B-4EE9-B320-CAD1705F81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ree Product Sample Execution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2&gt; TP = spawn(treeprod,treeprod,[]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0.40.0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3&gt; TP ! {{{{5,6},2},{3,4}},self()}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{{{5,6},2},{3,4}},&lt;0.33.0&gt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4&gt; flush(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hell got 7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5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Footer Placeholder 3"/>
          <p:cNvSpPr/>
          <p:nvPr/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B7936-358D-44D3-9F1B-3E4CE2E235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4"/>
          <p:cNvSpPr/>
          <p:nvPr/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.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8ED6A-F416-4442-827E-80D254F845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ctor Languages Summary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ors are concurrent entities that react to messag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 is completely encapsulated. There is no shared memory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passing is asynchronou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tors can create new actors.  Run-time has to ensure fairn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ST extends the call by value lambda calculus with actor primitives.  State is modeled as function arguments.  Actors u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receive new messag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LSA extends an object-oriented programming language (Java) with universal actors.  State is explicit, encapsulated in instance variables.  Control loop is implicit: ending a message handler, signals readiness to receive a new message.  Actors are garbage-collec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lang extends a functional programming language core with processes that run arbitrary functions.  State is implicit in the function’s arguments.  Control loop is explicit:  actors u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get a message, and tail-form recursive call to continue.  Ending a function denotes process (actor) termin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Operational Semantics of Actor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5" name="Footer Placeholder 3"/>
          <p:cNvSpPr/>
          <p:nvPr/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04A2A-7EE0-4235-AC43-6466B8DCB6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" descr="Screen Shot 2014-11-07 at 1.08.05 PM.png"/>
          <p:cNvPicPr/>
          <p:nvPr/>
        </p:nvPicPr>
        <p:blipFill>
          <a:blip r:embed="rId1"/>
          <a:stretch/>
        </p:blipFill>
        <p:spPr>
          <a:xfrm>
            <a:off x="-6480" y="1600200"/>
            <a:ext cx="9144000" cy="472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.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35062-BB12-4F76-98E5-4670B3310F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3333cc"/>
                </a:solidFill>
                <a:latin typeface="Times New Roman"/>
              </a:rPr>
              <a:t>Causal order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In a sequential program all execution  states are totally ord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In a concurrent program all execution states of a given actor are totally ord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The execution state of the concurrent program as a whole is partially ord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4"/>
          <p:cNvSpPr/>
          <p:nvPr/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.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69445-8577-4065-A461-874D9ADC71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3333cc"/>
                </a:solidFill>
                <a:latin typeface="Times New Roman"/>
              </a:rPr>
              <a:t>Total order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In a sequential program all execution  states are totally ord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4"/>
          <p:cNvSpPr/>
          <p:nvPr/>
        </p:nvSpPr>
        <p:spPr>
          <a:xfrm>
            <a:off x="1143000" y="434340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5"/>
          <p:cNvSpPr/>
          <p:nvPr/>
        </p:nvSpPr>
        <p:spPr>
          <a:xfrm>
            <a:off x="2057400" y="434340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6"/>
          <p:cNvSpPr/>
          <p:nvPr/>
        </p:nvSpPr>
        <p:spPr>
          <a:xfrm>
            <a:off x="2971800" y="434340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7"/>
          <p:cNvSpPr/>
          <p:nvPr/>
        </p:nvSpPr>
        <p:spPr>
          <a:xfrm>
            <a:off x="3886200" y="434340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8"/>
          <p:cNvSpPr/>
          <p:nvPr/>
        </p:nvSpPr>
        <p:spPr>
          <a:xfrm>
            <a:off x="4800600" y="434340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9"/>
          <p:cNvSpPr/>
          <p:nvPr/>
        </p:nvSpPr>
        <p:spPr>
          <a:xfrm>
            <a:off x="5715000" y="434340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10"/>
          <p:cNvSpPr/>
          <p:nvPr/>
        </p:nvSpPr>
        <p:spPr>
          <a:xfrm>
            <a:off x="1066680" y="510552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11"/>
          <p:cNvSpPr/>
          <p:nvPr/>
        </p:nvSpPr>
        <p:spPr>
          <a:xfrm>
            <a:off x="2347920" y="4836960"/>
            <a:ext cx="208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omputation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12"/>
          <p:cNvSpPr/>
          <p:nvPr/>
        </p:nvSpPr>
        <p:spPr>
          <a:xfrm>
            <a:off x="6845400" y="4075200"/>
            <a:ext cx="131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equ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4"/>
          <p:cNvSpPr/>
          <p:nvPr/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.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EDE95-2AC6-40BF-A3E5-F86FBE90E0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3333cc"/>
                </a:solidFill>
                <a:latin typeface="Times New Roman"/>
              </a:rPr>
              <a:t>Causal order in the actor model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In a concurrent program all execution states of a given actor are totally ord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The execution state of the concurrent program is partially ord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4"/>
          <p:cNvSpPr/>
          <p:nvPr/>
        </p:nvSpPr>
        <p:spPr>
          <a:xfrm>
            <a:off x="3124080" y="358128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5"/>
          <p:cNvSpPr/>
          <p:nvPr/>
        </p:nvSpPr>
        <p:spPr>
          <a:xfrm>
            <a:off x="4038480" y="358128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6"/>
          <p:cNvSpPr/>
          <p:nvPr/>
        </p:nvSpPr>
        <p:spPr>
          <a:xfrm>
            <a:off x="4952880" y="358128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7"/>
          <p:cNvSpPr/>
          <p:nvPr/>
        </p:nvSpPr>
        <p:spPr>
          <a:xfrm>
            <a:off x="5867280" y="358128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"/>
          <p:cNvSpPr/>
          <p:nvPr/>
        </p:nvSpPr>
        <p:spPr>
          <a:xfrm>
            <a:off x="1082520" y="598320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9"/>
          <p:cNvSpPr/>
          <p:nvPr/>
        </p:nvSpPr>
        <p:spPr>
          <a:xfrm>
            <a:off x="2363760" y="5715000"/>
            <a:ext cx="208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omputation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6935400" y="518148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ctor A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11"/>
          <p:cNvSpPr/>
          <p:nvPr/>
        </p:nvSpPr>
        <p:spPr>
          <a:xfrm>
            <a:off x="1295280" y="533412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12"/>
          <p:cNvSpPr/>
          <p:nvPr/>
        </p:nvSpPr>
        <p:spPr>
          <a:xfrm>
            <a:off x="2209680" y="533412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13"/>
          <p:cNvSpPr/>
          <p:nvPr/>
        </p:nvSpPr>
        <p:spPr>
          <a:xfrm>
            <a:off x="3124080" y="533412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Line 14"/>
          <p:cNvSpPr/>
          <p:nvPr/>
        </p:nvSpPr>
        <p:spPr>
          <a:xfrm>
            <a:off x="4038480" y="533412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15"/>
          <p:cNvSpPr/>
          <p:nvPr/>
        </p:nvSpPr>
        <p:spPr>
          <a:xfrm>
            <a:off x="4952880" y="533412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16"/>
          <p:cNvSpPr/>
          <p:nvPr/>
        </p:nvSpPr>
        <p:spPr>
          <a:xfrm>
            <a:off x="5867280" y="533412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17"/>
          <p:cNvSpPr/>
          <p:nvPr/>
        </p:nvSpPr>
        <p:spPr>
          <a:xfrm>
            <a:off x="2057400" y="434340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18"/>
          <p:cNvSpPr/>
          <p:nvPr/>
        </p:nvSpPr>
        <p:spPr>
          <a:xfrm>
            <a:off x="2971800" y="434340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19"/>
          <p:cNvSpPr/>
          <p:nvPr/>
        </p:nvSpPr>
        <p:spPr>
          <a:xfrm>
            <a:off x="3886200" y="434340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20"/>
          <p:cNvSpPr/>
          <p:nvPr/>
        </p:nvSpPr>
        <p:spPr>
          <a:xfrm>
            <a:off x="4800600" y="434340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21"/>
          <p:cNvSpPr/>
          <p:nvPr/>
        </p:nvSpPr>
        <p:spPr>
          <a:xfrm>
            <a:off x="5715000" y="434340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22"/>
          <p:cNvSpPr/>
          <p:nvPr/>
        </p:nvSpPr>
        <p:spPr>
          <a:xfrm flipV="1">
            <a:off x="1295280" y="4343400"/>
            <a:ext cx="762120" cy="990720"/>
          </a:xfrm>
          <a:prstGeom prst="line">
            <a:avLst/>
          </a:prstGeom>
          <a:ln w="255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23"/>
          <p:cNvSpPr/>
          <p:nvPr/>
        </p:nvSpPr>
        <p:spPr>
          <a:xfrm flipV="1">
            <a:off x="2971800" y="3580920"/>
            <a:ext cx="152280" cy="762120"/>
          </a:xfrm>
          <a:prstGeom prst="line">
            <a:avLst/>
          </a:prstGeom>
          <a:ln w="255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24"/>
          <p:cNvSpPr/>
          <p:nvPr/>
        </p:nvSpPr>
        <p:spPr>
          <a:xfrm>
            <a:off x="3886200" y="4343400"/>
            <a:ext cx="152280" cy="99072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25"/>
          <p:cNvSpPr/>
          <p:nvPr/>
        </p:nvSpPr>
        <p:spPr>
          <a:xfrm flipV="1">
            <a:off x="4800600" y="3580920"/>
            <a:ext cx="1066680" cy="76212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26"/>
          <p:cNvSpPr/>
          <p:nvPr/>
        </p:nvSpPr>
        <p:spPr>
          <a:xfrm>
            <a:off x="6096960" y="426708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ctor A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27"/>
          <p:cNvSpPr/>
          <p:nvPr/>
        </p:nvSpPr>
        <p:spPr>
          <a:xfrm>
            <a:off x="6859080" y="327672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ctor A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28"/>
          <p:cNvSpPr/>
          <p:nvPr/>
        </p:nvSpPr>
        <p:spPr>
          <a:xfrm>
            <a:off x="214560" y="4456080"/>
            <a:ext cx="14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990000"/>
                </a:solidFill>
                <a:latin typeface="Arial Narrow"/>
                <a:ea typeface="ＭＳ Ｐゴシック"/>
              </a:rPr>
              <a:t>Create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990000"/>
                </a:solidFill>
                <a:latin typeface="Arial Narrow"/>
                <a:ea typeface="ＭＳ Ｐゴシック"/>
              </a:rPr>
              <a:t>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29"/>
          <p:cNvSpPr/>
          <p:nvPr/>
        </p:nvSpPr>
        <p:spPr>
          <a:xfrm>
            <a:off x="4191120" y="44197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3333cc"/>
                </a:solidFill>
                <a:latin typeface="Arial Narrow"/>
                <a:ea typeface="ＭＳ Ｐゴシック"/>
              </a:rPr>
              <a:t>Send a 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Footer Placeholder 4"/>
          <p:cNvSpPr/>
          <p:nvPr/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.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1D105-7ADE-4046-8299-C234A59A6B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3333cc"/>
                </a:solidFill>
                <a:latin typeface="Times New Roman"/>
              </a:rPr>
              <a:t>Nondeterminism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An execution is nondeterministic if there is a computation step in which there is a choice what to do 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Nondeterminism appears naturally when there is asynchronous message pa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essages can arrive or be processed in an order different from the sending ord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Footer Placeholder 4"/>
          <p:cNvSpPr/>
          <p:nvPr/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.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4FC10-2A7C-4344-99B3-73C54FCDB3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3333cc"/>
                </a:solidFill>
                <a:latin typeface="Times New Roman"/>
              </a:rPr>
              <a:t>Example of nondeterminism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2" name="Line 3"/>
          <p:cNvSpPr/>
          <p:nvPr/>
        </p:nvSpPr>
        <p:spPr>
          <a:xfrm>
            <a:off x="2362320" y="2133720"/>
            <a:ext cx="0" cy="2666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2058480" y="4724280"/>
            <a:ext cx="6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1906560" y="1523880"/>
            <a:ext cx="9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cto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6"/>
          <p:cNvSpPr/>
          <p:nvPr/>
        </p:nvSpPr>
        <p:spPr>
          <a:xfrm>
            <a:off x="3393720" y="3200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m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7"/>
          <p:cNvSpPr/>
          <p:nvPr/>
        </p:nvSpPr>
        <p:spPr>
          <a:xfrm>
            <a:off x="2209680" y="3352680"/>
            <a:ext cx="228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8"/>
          <p:cNvSpPr/>
          <p:nvPr/>
        </p:nvSpPr>
        <p:spPr>
          <a:xfrm>
            <a:off x="4572000" y="2209680"/>
            <a:ext cx="0" cy="2590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9"/>
          <p:cNvSpPr/>
          <p:nvPr/>
        </p:nvSpPr>
        <p:spPr>
          <a:xfrm>
            <a:off x="4268520" y="4724280"/>
            <a:ext cx="6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10"/>
          <p:cNvSpPr/>
          <p:nvPr/>
        </p:nvSpPr>
        <p:spPr>
          <a:xfrm>
            <a:off x="4116240" y="1523880"/>
            <a:ext cx="9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cto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11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12"/>
          <p:cNvSpPr/>
          <p:nvPr/>
        </p:nvSpPr>
        <p:spPr>
          <a:xfrm>
            <a:off x="634320" y="5506920"/>
            <a:ext cx="639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ctor </a:t>
            </a:r>
            <a:r>
              <a:rPr b="0" lang="sv-SE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a</a:t>
            </a:r>
            <a:r>
              <a:rPr b="0" lang="sv-SE" sz="24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 can receive messages </a:t>
            </a:r>
            <a:r>
              <a:rPr b="0" lang="sv-SE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m1</a:t>
            </a:r>
            <a:r>
              <a:rPr b="0" lang="sv-SE" sz="24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 and </a:t>
            </a:r>
            <a:r>
              <a:rPr b="0" lang="sv-SE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m2</a:t>
            </a:r>
            <a:r>
              <a:rPr b="0" lang="sv-SE" sz="24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 in any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13"/>
          <p:cNvSpPr/>
          <p:nvPr/>
        </p:nvSpPr>
        <p:spPr>
          <a:xfrm>
            <a:off x="5375160" y="3200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Line 14"/>
          <p:cNvSpPr/>
          <p:nvPr/>
        </p:nvSpPr>
        <p:spPr>
          <a:xfrm>
            <a:off x="7162920" y="2209680"/>
            <a:ext cx="0" cy="2667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15"/>
          <p:cNvSpPr/>
          <p:nvPr/>
        </p:nvSpPr>
        <p:spPr>
          <a:xfrm>
            <a:off x="6859080" y="4800600"/>
            <a:ext cx="6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16"/>
          <p:cNvSpPr/>
          <p:nvPr/>
        </p:nvSpPr>
        <p:spPr>
          <a:xfrm>
            <a:off x="6707160" y="1600200"/>
            <a:ext cx="9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cto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17"/>
          <p:cNvSpPr/>
          <p:nvPr/>
        </p:nvSpPr>
        <p:spPr>
          <a:xfrm>
            <a:off x="2362320" y="3352680"/>
            <a:ext cx="4800600" cy="1219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18"/>
          <p:cNvSpPr/>
          <p:nvPr/>
        </p:nvSpPr>
        <p:spPr>
          <a:xfrm>
            <a:off x="4572000" y="3352680"/>
            <a:ext cx="259092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Footer Placeholder 4"/>
          <p:cNvSpPr/>
          <p:nvPr/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.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95EE0-7255-4490-BB09-8869123FE2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cc"/>
                </a:solidFill>
                <a:latin typeface="Times New Roman"/>
              </a:rPr>
              <a:t>Concurrency Control in SALSA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ALSA provides three main coordination construc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imes New Roman"/>
                <a:ea typeface="ＭＳ Ｐゴシック"/>
              </a:rPr>
              <a:t>Token-passing continu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 synchronize concurrent activ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 notify completion of message 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amed tokens enable arbitrary synchronization (data-flo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imes New Roman"/>
                <a:ea typeface="ＭＳ Ｐゴシック"/>
              </a:rPr>
              <a:t>Join b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sed for barrier synchronization for multiple concurrent activ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 obtain results from otherwise independent concurrent proc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imes New Roman"/>
                <a:ea typeface="ＭＳ Ｐゴシック"/>
              </a:rPr>
              <a:t>First-class continu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 delegate producing a result to a third-party a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Footer Placeholder 4"/>
          <p:cNvSpPr/>
          <p:nvPr/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.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A9A18-6D1C-4F8E-978B-84FCB990BD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oken Passing Continuation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sures that each message in the continuation expression is sent after the previous message has bee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cess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It also enables the use of a message handler return value as an argument for a later message (through the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ok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keyword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a1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  <a:ea typeface="ＭＳ Ｐゴシック"/>
              </a:rPr>
              <a:t>&lt;-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m1()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  <a:ea typeface="ＭＳ Ｐゴシック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a2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  <a:ea typeface="ＭＳ Ｐゴシック"/>
              </a:rPr>
              <a:t>&lt;-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m2(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  <a:ea typeface="ＭＳ Ｐゴシック"/>
              </a:rPr>
              <a:t>toke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end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m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to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a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asking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a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to forward the result of processing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m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to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a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(as the argument of message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m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Footer Placeholder 4"/>
          <p:cNvSpPr/>
          <p:nvPr/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.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81E1A-BACF-43A1-9FEE-E632B07FC9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oken Passing Continuation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@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yntax using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ok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an argument is syntactic sug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xample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a1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  <a:ea typeface="ＭＳ Ｐゴシック"/>
              </a:rPr>
              <a:t>&lt;-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m1()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  <a:ea typeface="ＭＳ Ｐゴシック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a2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  <a:ea typeface="ＭＳ Ｐゴシック"/>
              </a:rPr>
              <a:t>&lt;-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m2(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  <a:ea typeface="ＭＳ Ｐゴシック"/>
              </a:rPr>
              <a:t>toke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s syntactic sugar fo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  <a:ea typeface="ＭＳ Ｐゴシック"/>
              </a:rPr>
              <a:t>toke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2d2db9"/>
                </a:solidFill>
                <a:latin typeface="Courier New"/>
                <a:ea typeface="ＭＳ Ｐゴシック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= a1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  <a:ea typeface="ＭＳ Ｐゴシック"/>
              </a:rPr>
              <a:t>&lt;-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m1(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a2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  <a:ea typeface="ＭＳ Ｐゴシック"/>
              </a:rPr>
              <a:t>&lt;-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m2(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  <a:ea typeface="ＭＳ Ｐゴシック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xample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a1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  <a:ea typeface="ＭＳ Ｐゴシック"/>
              </a:rPr>
              <a:t>&lt;-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m1()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  <a:ea typeface="ＭＳ Ｐゴシック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a2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  <a:ea typeface="ＭＳ Ｐゴシック"/>
              </a:rPr>
              <a:t>&lt;-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m2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s syntactic sugar fo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  <a:ea typeface="ＭＳ Ｐゴシック"/>
              </a:rPr>
              <a:t>toke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2d2db9"/>
                </a:solidFill>
                <a:latin typeface="Courier New"/>
                <a:ea typeface="ＭＳ Ｐゴシック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= a1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  <a:ea typeface="ＭＳ Ｐゴシック"/>
              </a:rPr>
              <a:t>&lt;-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m1(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a2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  <a:ea typeface="ＭＳ Ｐゴシック"/>
              </a:rPr>
              <a:t>&lt;-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m2()</a:t>
            </a:r>
            <a:r>
              <a:rPr b="1" lang="en-US" sz="1800" spc="-1" strike="noStrike">
                <a:solidFill>
                  <a:srgbClr val="2d2db9"/>
                </a:solidFill>
                <a:latin typeface="Courier New"/>
                <a:ea typeface="ＭＳ Ｐゴシック"/>
              </a:rPr>
              <a:t>:waitf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(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  <a:ea typeface="ＭＳ Ｐゴシック"/>
              </a:rPr>
              <a:t>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ooter Placeholder 4"/>
          <p:cNvSpPr/>
          <p:nvPr/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.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3E367-6521-4780-AA3F-ACB0D0B149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Named Token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4800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kens can be named to enable more loosely-coupled synchron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xamp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  <a:ea typeface="ＭＳ Ｐゴシック"/>
              </a:rPr>
              <a:t>toke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  <a:ea typeface="ＭＳ Ｐゴシック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= a1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  <a:ea typeface="ＭＳ Ｐゴシック"/>
              </a:rPr>
              <a:t>&lt;-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m1(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  <a:ea typeface="ＭＳ Ｐゴシック"/>
              </a:rPr>
              <a:t>toke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  <a:ea typeface="ＭＳ Ｐゴシック"/>
              </a:rPr>
              <a:t>t2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= a2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  <a:ea typeface="ＭＳ Ｐゴシック"/>
              </a:rPr>
              <a:t>&lt;-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m2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  <a:ea typeface="ＭＳ Ｐゴシック"/>
              </a:rPr>
              <a:t>toke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  <a:ea typeface="ＭＳ Ｐゴシック"/>
              </a:rPr>
              <a:t>t3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= a3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  <a:ea typeface="ＭＳ Ｐゴシック"/>
              </a:rPr>
              <a:t>&lt;-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m3(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  <a:ea typeface="ＭＳ Ｐゴシック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  <a:ea typeface="ＭＳ Ｐゴシック"/>
              </a:rPr>
              <a:t>toke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  <a:ea typeface="ＭＳ Ｐゴシック"/>
              </a:rPr>
              <a:t>t4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= a4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  <a:ea typeface="ＭＳ Ｐゴシック"/>
              </a:rPr>
              <a:t>&lt;-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m4(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  <a:ea typeface="ＭＳ Ｐゴシック"/>
              </a:rPr>
              <a:t>t2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a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  <a:ea typeface="ＭＳ Ｐゴシック"/>
              </a:rPr>
              <a:t>&lt;-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m(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  <a:ea typeface="ＭＳ Ｐゴシック"/>
              </a:rPr>
              <a:t>t1,t2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,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  <a:ea typeface="ＭＳ Ｐゴシック"/>
              </a:rPr>
              <a:t>t3,t4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ending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m(…)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to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a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will be delayed until messages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m1()..m4()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have been processed.  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m1()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can proceed concurrently with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m2(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Picture 1" descr="Screen Shot 2014-11-11 at 12.18.21 PM.png"/>
          <p:cNvPicPr/>
          <p:nvPr/>
        </p:nvPicPr>
        <p:blipFill>
          <a:blip r:embed="rId1"/>
          <a:stretch/>
        </p:blipFill>
        <p:spPr>
          <a:xfrm>
            <a:off x="5257800" y="2286000"/>
            <a:ext cx="3622680" cy="318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Footer Placeholder 4"/>
          <p:cNvSpPr/>
          <p:nvPr/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.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E27C6-7AA4-4658-A5CC-046FCCC518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3333cc"/>
                </a:solidFill>
                <a:latin typeface="Times New Roman"/>
              </a:rPr>
              <a:t>Causal order in the actor model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8" name="Line 3"/>
          <p:cNvSpPr/>
          <p:nvPr/>
        </p:nvSpPr>
        <p:spPr>
          <a:xfrm>
            <a:off x="3124080" y="358128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4038480" y="358128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4952880" y="358128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6"/>
          <p:cNvSpPr/>
          <p:nvPr/>
        </p:nvSpPr>
        <p:spPr>
          <a:xfrm>
            <a:off x="5867280" y="358128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7"/>
          <p:cNvSpPr/>
          <p:nvPr/>
        </p:nvSpPr>
        <p:spPr>
          <a:xfrm>
            <a:off x="1082520" y="598320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8"/>
          <p:cNvSpPr/>
          <p:nvPr/>
        </p:nvSpPr>
        <p:spPr>
          <a:xfrm>
            <a:off x="2363760" y="5715000"/>
            <a:ext cx="208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omputation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9"/>
          <p:cNvSpPr/>
          <p:nvPr/>
        </p:nvSpPr>
        <p:spPr>
          <a:xfrm>
            <a:off x="6935400" y="518148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ctor A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10"/>
          <p:cNvSpPr/>
          <p:nvPr/>
        </p:nvSpPr>
        <p:spPr>
          <a:xfrm>
            <a:off x="1295280" y="533412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11"/>
          <p:cNvSpPr/>
          <p:nvPr/>
        </p:nvSpPr>
        <p:spPr>
          <a:xfrm>
            <a:off x="2209680" y="533412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3124080" y="533412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13"/>
          <p:cNvSpPr/>
          <p:nvPr/>
        </p:nvSpPr>
        <p:spPr>
          <a:xfrm>
            <a:off x="4038480" y="533412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14"/>
          <p:cNvSpPr/>
          <p:nvPr/>
        </p:nvSpPr>
        <p:spPr>
          <a:xfrm>
            <a:off x="4952880" y="533412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15"/>
          <p:cNvSpPr/>
          <p:nvPr/>
        </p:nvSpPr>
        <p:spPr>
          <a:xfrm>
            <a:off x="5867280" y="533412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16"/>
          <p:cNvSpPr/>
          <p:nvPr/>
        </p:nvSpPr>
        <p:spPr>
          <a:xfrm>
            <a:off x="2057400" y="434340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17"/>
          <p:cNvSpPr/>
          <p:nvPr/>
        </p:nvSpPr>
        <p:spPr>
          <a:xfrm>
            <a:off x="2971800" y="434340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18"/>
          <p:cNvSpPr/>
          <p:nvPr/>
        </p:nvSpPr>
        <p:spPr>
          <a:xfrm>
            <a:off x="3886200" y="434340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19"/>
          <p:cNvSpPr/>
          <p:nvPr/>
        </p:nvSpPr>
        <p:spPr>
          <a:xfrm>
            <a:off x="4800600" y="434340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20"/>
          <p:cNvSpPr/>
          <p:nvPr/>
        </p:nvSpPr>
        <p:spPr>
          <a:xfrm>
            <a:off x="5715000" y="434340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21"/>
          <p:cNvSpPr/>
          <p:nvPr/>
        </p:nvSpPr>
        <p:spPr>
          <a:xfrm flipV="1">
            <a:off x="1295280" y="4343400"/>
            <a:ext cx="762120" cy="990720"/>
          </a:xfrm>
          <a:prstGeom prst="line">
            <a:avLst/>
          </a:prstGeom>
          <a:ln w="255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Line 22"/>
          <p:cNvSpPr/>
          <p:nvPr/>
        </p:nvSpPr>
        <p:spPr>
          <a:xfrm flipV="1">
            <a:off x="2971800" y="3580920"/>
            <a:ext cx="152280" cy="762120"/>
          </a:xfrm>
          <a:prstGeom prst="line">
            <a:avLst/>
          </a:prstGeom>
          <a:ln w="255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23"/>
          <p:cNvSpPr/>
          <p:nvPr/>
        </p:nvSpPr>
        <p:spPr>
          <a:xfrm>
            <a:off x="3886200" y="4343400"/>
            <a:ext cx="152280" cy="99072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Line 24"/>
          <p:cNvSpPr/>
          <p:nvPr/>
        </p:nvSpPr>
        <p:spPr>
          <a:xfrm flipV="1">
            <a:off x="4800600" y="3580920"/>
            <a:ext cx="1066680" cy="76212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25"/>
          <p:cNvSpPr/>
          <p:nvPr/>
        </p:nvSpPr>
        <p:spPr>
          <a:xfrm>
            <a:off x="6096960" y="426708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ctor A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26"/>
          <p:cNvSpPr/>
          <p:nvPr/>
        </p:nvSpPr>
        <p:spPr>
          <a:xfrm>
            <a:off x="6859080" y="327672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ctor A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27"/>
          <p:cNvSpPr/>
          <p:nvPr/>
        </p:nvSpPr>
        <p:spPr>
          <a:xfrm>
            <a:off x="214560" y="4456080"/>
            <a:ext cx="140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990000"/>
                </a:solidFill>
                <a:latin typeface="Arial Narrow"/>
                <a:ea typeface="ＭＳ Ｐゴシック"/>
              </a:rPr>
              <a:t>create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990000"/>
                </a:solidFill>
                <a:latin typeface="Arial Narrow"/>
                <a:ea typeface="ＭＳ Ｐゴシック"/>
              </a:rPr>
              <a:t>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28"/>
          <p:cNvSpPr/>
          <p:nvPr/>
        </p:nvSpPr>
        <p:spPr>
          <a:xfrm flipV="1">
            <a:off x="2971800" y="1905120"/>
            <a:ext cx="990720" cy="914400"/>
          </a:xfrm>
          <a:prstGeom prst="line">
            <a:avLst/>
          </a:prstGeom>
          <a:ln w="25560">
            <a:solidFill>
              <a:srgbClr val="3333cc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29"/>
          <p:cNvSpPr/>
          <p:nvPr/>
        </p:nvSpPr>
        <p:spPr>
          <a:xfrm>
            <a:off x="1450080" y="289548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bind a t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30"/>
          <p:cNvSpPr/>
          <p:nvPr/>
        </p:nvSpPr>
        <p:spPr>
          <a:xfrm>
            <a:off x="4042440" y="1636560"/>
            <a:ext cx="36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receive a message with a t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31"/>
          <p:cNvSpPr/>
          <p:nvPr/>
        </p:nvSpPr>
        <p:spPr>
          <a:xfrm>
            <a:off x="4938840" y="3618000"/>
            <a:ext cx="3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3333cc"/>
                </a:solidFill>
                <a:latin typeface="Arial Narrow"/>
                <a:ea typeface="ＭＳ Ｐゴシック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32"/>
          <p:cNvSpPr/>
          <p:nvPr/>
        </p:nvSpPr>
        <p:spPr>
          <a:xfrm>
            <a:off x="3948480" y="4456080"/>
            <a:ext cx="3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3333cc"/>
                </a:solidFill>
                <a:latin typeface="Arial Narrow"/>
                <a:ea typeface="ＭＳ Ｐゴシック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MST Semantics Exampl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= [send(new(b5),a)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  <a:ea typeface="Courier New"/>
              </a:rPr>
              <a:t>a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{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  <a:ea typeface="Courier New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= [nil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  <a:ea typeface="Courier New"/>
              </a:rPr>
              <a:t>a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ready(b5)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  <a:ea typeface="Courier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{&lt;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=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new: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,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]   [snd: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]    [rcv: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,a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]    [fun: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snd: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,5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]   [fun: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  <a:ea typeface="Courier New"/>
              </a:rPr>
              <a:t>5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  <a:ea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Footer Placeholder 3"/>
          <p:cNvSpPr/>
          <p:nvPr/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1E11B-4FAE-43D1-84B1-E57BA78D66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" name="Straight Arrow Connector 8"/>
          <p:cNvCxnSpPr/>
          <p:nvPr/>
        </p:nvCxnSpPr>
        <p:spPr>
          <a:xfrm>
            <a:off x="1371600" y="3580920"/>
            <a:ext cx="12960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" name="Straight Arrow Connector 9"/>
          <p:cNvCxnSpPr/>
          <p:nvPr/>
        </p:nvCxnSpPr>
        <p:spPr>
          <a:xfrm>
            <a:off x="3124080" y="3580920"/>
            <a:ext cx="10677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" name="Straight Arrow Connector 11"/>
          <p:cNvCxnSpPr/>
          <p:nvPr/>
        </p:nvCxnSpPr>
        <p:spPr>
          <a:xfrm>
            <a:off x="4876920" y="3580920"/>
            <a:ext cx="12960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5" name="Straight Arrow Connector 14"/>
          <p:cNvCxnSpPr/>
          <p:nvPr/>
        </p:nvCxnSpPr>
        <p:spPr>
          <a:xfrm>
            <a:off x="6781680" y="3580920"/>
            <a:ext cx="10677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6" name="Straight Arrow Connector 15"/>
          <p:cNvCxnSpPr/>
          <p:nvPr/>
        </p:nvCxnSpPr>
        <p:spPr>
          <a:xfrm>
            <a:off x="1371600" y="4571640"/>
            <a:ext cx="12960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" name="Straight Arrow Connector 16"/>
          <p:cNvCxnSpPr/>
          <p:nvPr/>
        </p:nvCxnSpPr>
        <p:spPr>
          <a:xfrm>
            <a:off x="3123720" y="4571640"/>
            <a:ext cx="11437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" name="Comment 6"/>
          <p:cNvSpPr/>
          <p:nvPr/>
        </p:nvSpPr>
        <p:spPr>
          <a:xfrm>
            <a:off x="5410080" y="4343400"/>
            <a:ext cx="2971800" cy="1228680"/>
          </a:xfrm>
          <a:prstGeom prst="rect">
            <a:avLst/>
          </a:prstGeom>
          <a:solidFill>
            <a:srgbClr val="fcfdc6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This sequence of (labeled) transitions from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  <a:ea typeface="Courier New"/>
              </a:rPr>
              <a:t>0 </a:t>
            </a: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t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  <a:ea typeface="Courier New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 is called a </a:t>
            </a:r>
            <a:r>
              <a:rPr b="1" i="1" lang="en-US" sz="1800" spc="-1" strike="noStrike">
                <a:solidFill>
                  <a:srgbClr val="000000"/>
                </a:solidFill>
                <a:latin typeface="Geneva"/>
              </a:rPr>
              <a:t>computation sequence</a:t>
            </a: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Footer Placeholder 4"/>
          <p:cNvSpPr/>
          <p:nvPr/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.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AF990-0F12-491E-A3EB-2AE1B9A0C6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eterministic Cell Tester Exampl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modul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cel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behavio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TokenCellTester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voi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ac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String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] args 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Cell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c =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new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Cell(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andardOutput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&lt;-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( </a:t>
            </a:r>
            <a:r>
              <a:rPr b="1" lang="ja-JP" sz="1400" spc="-1" strike="noStrike">
                <a:solidFill>
                  <a:srgbClr val="000000"/>
                </a:solidFill>
                <a:latin typeface="Courier New"/>
              </a:rPr>
              <a:t>”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l Value:</a:t>
            </a:r>
            <a:r>
              <a:rPr b="1" lang="ja-JP" sz="1400" spc="-1" strike="noStrike">
                <a:solidFill>
                  <a:srgbClr val="000000"/>
                </a:solidFill>
                <a:latin typeface="Courier New"/>
              </a:rPr>
              <a:t>”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)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@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&lt;-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get()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@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andardOutput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&lt;-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ln(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toke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)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@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&lt;-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set(2)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@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andardOutput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&lt;-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( </a:t>
            </a:r>
            <a:r>
              <a:rPr b="1" lang="ja-JP" sz="1400" spc="-1" strike="noStrike">
                <a:solidFill>
                  <a:srgbClr val="000000"/>
                </a:solidFill>
                <a:latin typeface="Courier New"/>
              </a:rPr>
              <a:t>”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ew Value:</a:t>
            </a:r>
            <a:r>
              <a:rPr b="1" lang="ja-JP" sz="1400" spc="-1" strike="noStrike">
                <a:solidFill>
                  <a:srgbClr val="000000"/>
                </a:solidFill>
                <a:latin typeface="Courier New"/>
              </a:rPr>
              <a:t>”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)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@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&lt;-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get()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@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andardOutput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&lt;-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ln(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toke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Comment 6"/>
          <p:cNvSpPr/>
          <p:nvPr/>
        </p:nvSpPr>
        <p:spPr>
          <a:xfrm>
            <a:off x="5486400" y="4724280"/>
            <a:ext cx="2666880" cy="1739880"/>
          </a:xfrm>
          <a:prstGeom prst="rect">
            <a:avLst/>
          </a:prstGeom>
          <a:solidFill>
            <a:srgbClr val="fcfdc6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oken </a:t>
            </a: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can be optionally used to get the return value (completion proof) of the previous messag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Comment 6"/>
          <p:cNvSpPr/>
          <p:nvPr/>
        </p:nvSpPr>
        <p:spPr>
          <a:xfrm>
            <a:off x="5943600" y="2286000"/>
            <a:ext cx="2666880" cy="916920"/>
          </a:xfrm>
          <a:prstGeom prst="rect">
            <a:avLst/>
          </a:prstGeom>
          <a:solidFill>
            <a:srgbClr val="fcfdc6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@ </a:t>
            </a: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syntax enforces a sequential order of message execu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Footer Placeholder 4"/>
          <p:cNvSpPr/>
          <p:nvPr/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.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83366-DFEA-40DC-BF84-972D086D44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ell Tester Example with Named Token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modu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el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behavi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amedTokenCellTester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void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ac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String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rgs[]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Cell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c = new Cell(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oke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0 = standardOutput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lt;-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("Initial Value: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oke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t0 = c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lt;-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e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oke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1 = standardOutput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lt;-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ln(t0)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:waitfo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p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oke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t1 = c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lt;-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set(2)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:waitfo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t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oke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2 = standardOutput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lt;-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rint("New Value:")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:waitfo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p1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oke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t2 = c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lt;-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get()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:waitfo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t1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andardOutput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lt;-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rintln(t2)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:waitfo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p2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Comment 6"/>
          <p:cNvSpPr/>
          <p:nvPr/>
        </p:nvSpPr>
        <p:spPr>
          <a:xfrm>
            <a:off x="5334120" y="5105520"/>
            <a:ext cx="2666880" cy="1191240"/>
          </a:xfrm>
          <a:prstGeom prst="rect">
            <a:avLst/>
          </a:prstGeom>
          <a:solidFill>
            <a:srgbClr val="fcfdc6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We us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0, t1, t2 </a:t>
            </a: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tokens to ensure cell messages are processed in ord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Comment 6"/>
          <p:cNvSpPr/>
          <p:nvPr/>
        </p:nvSpPr>
        <p:spPr>
          <a:xfrm>
            <a:off x="5181480" y="2286000"/>
            <a:ext cx="2667240" cy="916920"/>
          </a:xfrm>
          <a:prstGeom prst="rect">
            <a:avLst/>
          </a:prstGeom>
          <a:solidFill>
            <a:srgbClr val="fcfdc6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We us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0, p1, p2 </a:t>
            </a: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tokens to ensure printing in ord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Footer Placeholder 4"/>
          <p:cNvSpPr/>
          <p:nvPr/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.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EC7AD-0BA8-46AD-A97B-D826A9745B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19040" y="216000"/>
            <a:ext cx="7772400" cy="85392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Join Block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a mechanism for synchronizing the processing of a set of messag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of results is sent along as 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oke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ining an array of resul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xamp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UniversalActor[] actors = { searcher0, searcher1,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       searcher2, searcher3 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  <a:ea typeface="ＭＳ Ｐゴシック"/>
              </a:rPr>
              <a:t>join {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for (int i=0; i &lt; actors.length; i++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actors[i]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  <a:ea typeface="ＭＳ Ｐゴシック"/>
              </a:rPr>
              <a:t>&lt;-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find( phrase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  <a:ea typeface="ＭＳ Ｐゴシック"/>
              </a:rPr>
              <a:t>} @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resultActor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  <a:ea typeface="ＭＳ Ｐゴシック"/>
              </a:rPr>
              <a:t>&lt;-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output(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  <a:ea typeface="ＭＳ Ｐゴシック"/>
              </a:rPr>
              <a:t>toke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end the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find( phrase )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message to each actor in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actors[]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then after all have completed send the result to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esultActo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as the argument of an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output( … )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mess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Footer Placeholder 5"/>
          <p:cNvSpPr/>
          <p:nvPr/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.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16381-7CC1-43CA-8DD0-036EDCB9BE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6" name="Picture 2" descr="join"/>
          <p:cNvPicPr/>
          <p:nvPr/>
        </p:nvPicPr>
        <p:blipFill>
          <a:blip r:embed="rId1"/>
          <a:stretch/>
        </p:blipFill>
        <p:spPr>
          <a:xfrm>
            <a:off x="1511280" y="2860560"/>
            <a:ext cx="6032520" cy="341316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Example: Acknowledged Multicas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294680" cy="89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join{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1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&lt;-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1(); a2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&lt;-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2(); … an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&lt;-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n(); }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ust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&lt;-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n(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toke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Footer Placeholder 4"/>
          <p:cNvSpPr/>
          <p:nvPr/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.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4BD55-D3D8-4B40-A231-1BA8B3D1B9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Lines of Code Comparison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412" name="Group 3"/>
          <p:cNvGrpSpPr/>
          <p:nvPr/>
        </p:nvGrpSpPr>
        <p:grpSpPr>
          <a:xfrm>
            <a:off x="431640" y="3068640"/>
            <a:ext cx="8229600" cy="1035000"/>
            <a:chOff x="431640" y="3068640"/>
            <a:chExt cx="8229600" cy="1035000"/>
          </a:xfrm>
        </p:grpSpPr>
        <p:sp>
          <p:nvSpPr>
            <p:cNvPr id="413" name="Rectangle 4"/>
            <p:cNvSpPr/>
            <p:nvPr/>
          </p:nvSpPr>
          <p:spPr>
            <a:xfrm>
              <a:off x="7067520" y="3586320"/>
              <a:ext cx="15937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Rectangle 5"/>
            <p:cNvSpPr/>
            <p:nvPr/>
          </p:nvSpPr>
          <p:spPr>
            <a:xfrm>
              <a:off x="5518080" y="3586320"/>
              <a:ext cx="154944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Rectangle 6"/>
            <p:cNvSpPr/>
            <p:nvPr/>
          </p:nvSpPr>
          <p:spPr>
            <a:xfrm>
              <a:off x="4475160" y="3586320"/>
              <a:ext cx="10429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6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Rectangle 7"/>
            <p:cNvSpPr/>
            <p:nvPr/>
          </p:nvSpPr>
          <p:spPr>
            <a:xfrm>
              <a:off x="431640" y="3586320"/>
              <a:ext cx="40435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cknowledged Multica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Rectangle 8"/>
            <p:cNvSpPr/>
            <p:nvPr/>
          </p:nvSpPr>
          <p:spPr>
            <a:xfrm>
              <a:off x="7067520" y="3068640"/>
              <a:ext cx="15937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ALS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Rectangle 9"/>
            <p:cNvSpPr/>
            <p:nvPr/>
          </p:nvSpPr>
          <p:spPr>
            <a:xfrm>
              <a:off x="5518080" y="3068640"/>
              <a:ext cx="154944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ound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4475160" y="3068640"/>
              <a:ext cx="10429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Jav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Rectangle 11"/>
            <p:cNvSpPr/>
            <p:nvPr/>
          </p:nvSpPr>
          <p:spPr>
            <a:xfrm>
              <a:off x="431640" y="3068640"/>
              <a:ext cx="40435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>
              <a:off x="431640" y="3068640"/>
              <a:ext cx="8229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13"/>
            <p:cNvSpPr/>
            <p:nvPr/>
          </p:nvSpPr>
          <p:spPr>
            <a:xfrm>
              <a:off x="431640" y="358632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14"/>
            <p:cNvSpPr/>
            <p:nvPr/>
          </p:nvSpPr>
          <p:spPr>
            <a:xfrm>
              <a:off x="431640" y="4103640"/>
              <a:ext cx="8229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15"/>
            <p:cNvSpPr/>
            <p:nvPr/>
          </p:nvSpPr>
          <p:spPr>
            <a:xfrm>
              <a:off x="431640" y="3068640"/>
              <a:ext cx="0" cy="1035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16"/>
            <p:cNvSpPr/>
            <p:nvPr/>
          </p:nvSpPr>
          <p:spPr>
            <a:xfrm>
              <a:off x="4475160" y="3068640"/>
              <a:ext cx="0" cy="103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17"/>
            <p:cNvSpPr/>
            <p:nvPr/>
          </p:nvSpPr>
          <p:spPr>
            <a:xfrm>
              <a:off x="5518080" y="3068640"/>
              <a:ext cx="0" cy="103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18"/>
            <p:cNvSpPr/>
            <p:nvPr/>
          </p:nvSpPr>
          <p:spPr>
            <a:xfrm>
              <a:off x="7067520" y="3068640"/>
              <a:ext cx="0" cy="103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19"/>
            <p:cNvSpPr/>
            <p:nvPr/>
          </p:nvSpPr>
          <p:spPr>
            <a:xfrm>
              <a:off x="8661240" y="3068640"/>
              <a:ext cx="0" cy="1035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Footer Placeholder 4"/>
          <p:cNvSpPr/>
          <p:nvPr/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.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DB97C-0293-4470-8955-0BC44FC440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First Class Continuation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able actors to delegate computation to a third party independently of the processing contex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m(…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&lt;-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n(…)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@ currentContinua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sk (delegate) actor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b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to respond to this message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m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on behalf of current actor (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el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) by processing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b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’s message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Footer Placeholder 4"/>
          <p:cNvSpPr/>
          <p:nvPr/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.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651F2-61BE-40FB-9524-480A209938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elegate Exampl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modu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bonacc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behavi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lculato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fi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int n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bonacci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 =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ne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bonacci(n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&l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 compute()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@ currentContinuatio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ad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int n1, int n2) {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n1+n2;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a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String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gs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[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b(15)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@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ndardOutput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&lt;-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rintln(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toke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b(5)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@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(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toke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3)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@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ndardOutput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&lt;-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rintln(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toke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Comment 6"/>
          <p:cNvSpPr/>
          <p:nvPr/>
        </p:nvSpPr>
        <p:spPr>
          <a:xfrm>
            <a:off x="4343400" y="1447920"/>
            <a:ext cx="2819520" cy="1202760"/>
          </a:xfrm>
          <a:prstGeom prst="rect">
            <a:avLst/>
          </a:prstGeom>
          <a:solidFill>
            <a:srgbClr val="fcfdc6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ib(1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s syntactic sugar for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 &lt;- fib(1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Footer Placeholder 4"/>
          <p:cNvSpPr/>
          <p:nvPr/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.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907FB-5712-46B9-8789-BB9737B494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Fibonacci Exampl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urier New"/>
              </a:rPr>
              <a:t>modu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fibonacci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urier New"/>
              </a:rPr>
              <a:t>behavi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Fibonacci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n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ibonacci(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n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{ 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n = n;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add(int x, int y) { 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x + y;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compute(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f (n == 0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lse if (n &lt;= 2)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ibonacci fib1 = 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Fibonacci(n-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ibonacci fib2 = 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Fibonacci(n-2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</a:rPr>
              <a:t>toke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x = fib1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</a:rPr>
              <a:t>&lt;-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mpute()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</a:rPr>
              <a:t>toke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y = fib2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</a:rPr>
              <a:t>&lt;-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mpute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dd(x,y) 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</a:rPr>
              <a:t>@ currentContinua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act(String args[]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= Integer.parseInt(args[0]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mpute() 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</a:rPr>
              <a:t>@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standardOutput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</a:rPr>
              <a:t>&lt;-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ntln(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</a:rPr>
              <a:t>toke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Footer Placeholder 4"/>
          <p:cNvSpPr/>
          <p:nvPr/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.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F5E6D-2743-46F8-AC06-17CDF0B4BC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Fibonacci Example 2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7848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modul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fibonacci2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behavio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Fibonacci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add(int x, int y) {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x + y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compute(int n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n == 0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lse if (n &lt;= 2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ibonacci fib =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new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Fibonacci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toke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x = fib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&lt;-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pute(n-1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pute(n-2)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@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add(x,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toke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@ currentContinuatio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voi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act(String args[]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n = Integer.parseInt(args[0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pute(n)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@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standardOutput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&lt;-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ln(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toke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Comment 6"/>
          <p:cNvSpPr/>
          <p:nvPr/>
        </p:nvSpPr>
        <p:spPr>
          <a:xfrm>
            <a:off x="5943600" y="2743200"/>
            <a:ext cx="2819520" cy="642600"/>
          </a:xfrm>
          <a:prstGeom prst="rect">
            <a:avLst/>
          </a:prstGeom>
          <a:solidFill>
            <a:srgbClr val="fcfdc6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ute(n-2) </a:t>
            </a: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s a message t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</a:t>
            </a: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Footer Placeholder 4"/>
          <p:cNvSpPr/>
          <p:nvPr/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.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FFBCF-88A5-411D-8646-6B2B06CC1D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3333cc"/>
                </a:solidFill>
                <a:latin typeface="Times New Roman"/>
              </a:rPr>
              <a:t>Execution of </a:t>
            </a:r>
            <a:br>
              <a:rPr sz="4400"/>
            </a:br>
            <a:r>
              <a:rPr b="0" lang="sv-SE" sz="4400" spc="-1" strike="noStrike">
                <a:solidFill>
                  <a:srgbClr val="3333cc"/>
                </a:solidFill>
                <a:latin typeface="Courier New"/>
              </a:rPr>
              <a:t>salsa Fibonacci 6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0" name="Line 3"/>
          <p:cNvSpPr/>
          <p:nvPr/>
        </p:nvSpPr>
        <p:spPr>
          <a:xfrm>
            <a:off x="304920" y="6172200"/>
            <a:ext cx="5943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4"/>
          <p:cNvSpPr/>
          <p:nvPr/>
        </p:nvSpPr>
        <p:spPr>
          <a:xfrm>
            <a:off x="1143000" y="4419720"/>
            <a:ext cx="4114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Line 5"/>
          <p:cNvSpPr/>
          <p:nvPr/>
        </p:nvSpPr>
        <p:spPr>
          <a:xfrm>
            <a:off x="1905120" y="304812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6"/>
          <p:cNvSpPr/>
          <p:nvPr/>
        </p:nvSpPr>
        <p:spPr>
          <a:xfrm flipV="1">
            <a:off x="685800" y="4419720"/>
            <a:ext cx="457200" cy="175248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Line 7"/>
          <p:cNvSpPr/>
          <p:nvPr/>
        </p:nvSpPr>
        <p:spPr>
          <a:xfrm>
            <a:off x="5257800" y="4419720"/>
            <a:ext cx="457200" cy="1752480"/>
          </a:xfrm>
          <a:prstGeom prst="line">
            <a:avLst/>
          </a:prstGeom>
          <a:ln cap="rnd" w="25560">
            <a:solidFill>
              <a:srgbClr val="99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Line 8"/>
          <p:cNvSpPr/>
          <p:nvPr/>
        </p:nvSpPr>
        <p:spPr>
          <a:xfrm flipV="1">
            <a:off x="1523880" y="3048120"/>
            <a:ext cx="381240" cy="137160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Line 9"/>
          <p:cNvSpPr/>
          <p:nvPr/>
        </p:nvSpPr>
        <p:spPr>
          <a:xfrm>
            <a:off x="4648320" y="3124080"/>
            <a:ext cx="380880" cy="1295640"/>
          </a:xfrm>
          <a:prstGeom prst="line">
            <a:avLst/>
          </a:prstGeom>
          <a:ln cap="rnd" w="25560">
            <a:solidFill>
              <a:srgbClr val="99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Line 10"/>
          <p:cNvSpPr/>
          <p:nvPr/>
        </p:nvSpPr>
        <p:spPr>
          <a:xfrm>
            <a:off x="1676520" y="5486400"/>
            <a:ext cx="17524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Line 11"/>
          <p:cNvSpPr/>
          <p:nvPr/>
        </p:nvSpPr>
        <p:spPr>
          <a:xfrm flipV="1">
            <a:off x="1447920" y="5486040"/>
            <a:ext cx="228600" cy="68580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12"/>
          <p:cNvSpPr/>
          <p:nvPr/>
        </p:nvSpPr>
        <p:spPr>
          <a:xfrm>
            <a:off x="3429000" y="5486400"/>
            <a:ext cx="304920" cy="685800"/>
          </a:xfrm>
          <a:prstGeom prst="line">
            <a:avLst/>
          </a:prstGeom>
          <a:ln cap="rnd" w="25560">
            <a:solidFill>
              <a:srgbClr val="99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13"/>
          <p:cNvSpPr/>
          <p:nvPr/>
        </p:nvSpPr>
        <p:spPr>
          <a:xfrm>
            <a:off x="2209680" y="4952880"/>
            <a:ext cx="762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14"/>
          <p:cNvSpPr/>
          <p:nvPr/>
        </p:nvSpPr>
        <p:spPr>
          <a:xfrm flipV="1">
            <a:off x="1981080" y="4952880"/>
            <a:ext cx="228600" cy="53352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Line 15"/>
          <p:cNvSpPr/>
          <p:nvPr/>
        </p:nvSpPr>
        <p:spPr>
          <a:xfrm>
            <a:off x="2971800" y="4952880"/>
            <a:ext cx="228600" cy="53352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16"/>
          <p:cNvSpPr/>
          <p:nvPr/>
        </p:nvSpPr>
        <p:spPr>
          <a:xfrm>
            <a:off x="290160" y="5726160"/>
            <a:ext cx="4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F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17"/>
          <p:cNvSpPr/>
          <p:nvPr/>
        </p:nvSpPr>
        <p:spPr>
          <a:xfrm>
            <a:off x="991800" y="3962520"/>
            <a:ext cx="4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F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18"/>
          <p:cNvSpPr/>
          <p:nvPr/>
        </p:nvSpPr>
        <p:spPr>
          <a:xfrm>
            <a:off x="915480" y="5715000"/>
            <a:ext cx="4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F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19"/>
          <p:cNvSpPr/>
          <p:nvPr/>
        </p:nvSpPr>
        <p:spPr>
          <a:xfrm>
            <a:off x="1677600" y="5715000"/>
            <a:ext cx="4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20"/>
          <p:cNvSpPr/>
          <p:nvPr/>
        </p:nvSpPr>
        <p:spPr>
          <a:xfrm>
            <a:off x="1677600" y="5105520"/>
            <a:ext cx="4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F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21"/>
          <p:cNvSpPr/>
          <p:nvPr/>
        </p:nvSpPr>
        <p:spPr>
          <a:xfrm>
            <a:off x="2363400" y="4572000"/>
            <a:ext cx="4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22"/>
          <p:cNvSpPr/>
          <p:nvPr/>
        </p:nvSpPr>
        <p:spPr>
          <a:xfrm>
            <a:off x="2439720" y="5029200"/>
            <a:ext cx="4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Line 23"/>
          <p:cNvSpPr/>
          <p:nvPr/>
        </p:nvSpPr>
        <p:spPr>
          <a:xfrm>
            <a:off x="2438280" y="2362320"/>
            <a:ext cx="1752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Line 24"/>
          <p:cNvSpPr/>
          <p:nvPr/>
        </p:nvSpPr>
        <p:spPr>
          <a:xfrm flipV="1">
            <a:off x="2209680" y="2361960"/>
            <a:ext cx="228600" cy="68580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Line 25"/>
          <p:cNvSpPr/>
          <p:nvPr/>
        </p:nvSpPr>
        <p:spPr>
          <a:xfrm>
            <a:off x="4191120" y="2362320"/>
            <a:ext cx="152280" cy="685800"/>
          </a:xfrm>
          <a:prstGeom prst="line">
            <a:avLst/>
          </a:prstGeom>
          <a:ln cap="rnd" w="25560">
            <a:solidFill>
              <a:srgbClr val="99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26"/>
          <p:cNvSpPr/>
          <p:nvPr/>
        </p:nvSpPr>
        <p:spPr>
          <a:xfrm>
            <a:off x="2971800" y="1828800"/>
            <a:ext cx="762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27"/>
          <p:cNvSpPr/>
          <p:nvPr/>
        </p:nvSpPr>
        <p:spPr>
          <a:xfrm flipV="1">
            <a:off x="2819520" y="1828800"/>
            <a:ext cx="152280" cy="53352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Line 28"/>
          <p:cNvSpPr/>
          <p:nvPr/>
        </p:nvSpPr>
        <p:spPr>
          <a:xfrm>
            <a:off x="3733920" y="1828800"/>
            <a:ext cx="228600" cy="533520"/>
          </a:xfrm>
          <a:prstGeom prst="line">
            <a:avLst/>
          </a:prstGeom>
          <a:ln cap="rnd" w="25560">
            <a:solidFill>
              <a:srgbClr val="99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29"/>
          <p:cNvSpPr/>
          <p:nvPr/>
        </p:nvSpPr>
        <p:spPr>
          <a:xfrm>
            <a:off x="2439720" y="2590920"/>
            <a:ext cx="4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 Box 30"/>
          <p:cNvSpPr/>
          <p:nvPr/>
        </p:nvSpPr>
        <p:spPr>
          <a:xfrm>
            <a:off x="2439720" y="1981080"/>
            <a:ext cx="4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F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 Box 31"/>
          <p:cNvSpPr/>
          <p:nvPr/>
        </p:nvSpPr>
        <p:spPr>
          <a:xfrm>
            <a:off x="3125520" y="1447920"/>
            <a:ext cx="4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 Box 32"/>
          <p:cNvSpPr/>
          <p:nvPr/>
        </p:nvSpPr>
        <p:spPr>
          <a:xfrm>
            <a:off x="3201480" y="1905120"/>
            <a:ext cx="4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33"/>
          <p:cNvSpPr/>
          <p:nvPr/>
        </p:nvSpPr>
        <p:spPr>
          <a:xfrm>
            <a:off x="1829880" y="2590920"/>
            <a:ext cx="4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F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Line 34"/>
          <p:cNvSpPr/>
          <p:nvPr/>
        </p:nvSpPr>
        <p:spPr>
          <a:xfrm>
            <a:off x="2362320" y="3886200"/>
            <a:ext cx="7617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35"/>
          <p:cNvSpPr/>
          <p:nvPr/>
        </p:nvSpPr>
        <p:spPr>
          <a:xfrm flipV="1">
            <a:off x="2209680" y="3886200"/>
            <a:ext cx="152640" cy="53352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36"/>
          <p:cNvSpPr/>
          <p:nvPr/>
        </p:nvSpPr>
        <p:spPr>
          <a:xfrm>
            <a:off x="3124080" y="3886200"/>
            <a:ext cx="228600" cy="533520"/>
          </a:xfrm>
          <a:prstGeom prst="line">
            <a:avLst/>
          </a:prstGeom>
          <a:ln cap="rnd" w="25560">
            <a:solidFill>
              <a:srgbClr val="99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37"/>
          <p:cNvSpPr/>
          <p:nvPr/>
        </p:nvSpPr>
        <p:spPr>
          <a:xfrm>
            <a:off x="2592000" y="3962520"/>
            <a:ext cx="4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38"/>
          <p:cNvSpPr/>
          <p:nvPr/>
        </p:nvSpPr>
        <p:spPr>
          <a:xfrm>
            <a:off x="1753920" y="3962520"/>
            <a:ext cx="4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F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9"/>
          <p:cNvSpPr/>
          <p:nvPr/>
        </p:nvSpPr>
        <p:spPr>
          <a:xfrm>
            <a:off x="2439720" y="3429000"/>
            <a:ext cx="4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Oval 40"/>
          <p:cNvSpPr/>
          <p:nvPr/>
        </p:nvSpPr>
        <p:spPr>
          <a:xfrm>
            <a:off x="3886200" y="2286000"/>
            <a:ext cx="152280" cy="152280"/>
          </a:xfrm>
          <a:prstGeom prst="ellipse">
            <a:avLst/>
          </a:prstGeom>
          <a:solidFill>
            <a:srgbClr val="808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Oval 41"/>
          <p:cNvSpPr/>
          <p:nvPr/>
        </p:nvSpPr>
        <p:spPr>
          <a:xfrm>
            <a:off x="4267080" y="2971800"/>
            <a:ext cx="152640" cy="152280"/>
          </a:xfrm>
          <a:prstGeom prst="ellipse">
            <a:avLst/>
          </a:prstGeom>
          <a:solidFill>
            <a:srgbClr val="808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Oval 42"/>
          <p:cNvSpPr/>
          <p:nvPr/>
        </p:nvSpPr>
        <p:spPr>
          <a:xfrm>
            <a:off x="4952880" y="4343400"/>
            <a:ext cx="152640" cy="152280"/>
          </a:xfrm>
          <a:prstGeom prst="ellipse">
            <a:avLst/>
          </a:prstGeom>
          <a:solidFill>
            <a:srgbClr val="808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Oval 43"/>
          <p:cNvSpPr/>
          <p:nvPr/>
        </p:nvSpPr>
        <p:spPr>
          <a:xfrm>
            <a:off x="5638680" y="6095880"/>
            <a:ext cx="152640" cy="152640"/>
          </a:xfrm>
          <a:prstGeom prst="ellipse">
            <a:avLst/>
          </a:prstGeom>
          <a:solidFill>
            <a:srgbClr val="808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Oval 44"/>
          <p:cNvSpPr/>
          <p:nvPr/>
        </p:nvSpPr>
        <p:spPr>
          <a:xfrm>
            <a:off x="3657600" y="6095880"/>
            <a:ext cx="152280" cy="152640"/>
          </a:xfrm>
          <a:prstGeom prst="ellipse">
            <a:avLst/>
          </a:prstGeom>
          <a:solidFill>
            <a:srgbClr val="808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Oval 45"/>
          <p:cNvSpPr/>
          <p:nvPr/>
        </p:nvSpPr>
        <p:spPr>
          <a:xfrm>
            <a:off x="3124080" y="5410080"/>
            <a:ext cx="152640" cy="152640"/>
          </a:xfrm>
          <a:prstGeom prst="ellipse">
            <a:avLst/>
          </a:prstGeom>
          <a:solidFill>
            <a:srgbClr val="808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Oval 46"/>
          <p:cNvSpPr/>
          <p:nvPr/>
        </p:nvSpPr>
        <p:spPr>
          <a:xfrm>
            <a:off x="3276720" y="4343400"/>
            <a:ext cx="152280" cy="152280"/>
          </a:xfrm>
          <a:prstGeom prst="ellipse">
            <a:avLst/>
          </a:prstGeom>
          <a:solidFill>
            <a:srgbClr val="808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Line 47"/>
          <p:cNvSpPr/>
          <p:nvPr/>
        </p:nvSpPr>
        <p:spPr>
          <a:xfrm>
            <a:off x="7162920" y="2057400"/>
            <a:ext cx="7617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Line 48"/>
          <p:cNvSpPr/>
          <p:nvPr/>
        </p:nvSpPr>
        <p:spPr>
          <a:xfrm flipV="1">
            <a:off x="7010280" y="2057400"/>
            <a:ext cx="152640" cy="53352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49"/>
          <p:cNvSpPr/>
          <p:nvPr/>
        </p:nvSpPr>
        <p:spPr>
          <a:xfrm>
            <a:off x="6705720" y="2666880"/>
            <a:ext cx="1371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50"/>
          <p:cNvSpPr/>
          <p:nvPr/>
        </p:nvSpPr>
        <p:spPr>
          <a:xfrm>
            <a:off x="6631200" y="1523880"/>
            <a:ext cx="208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reate new 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51"/>
          <p:cNvSpPr/>
          <p:nvPr/>
        </p:nvSpPr>
        <p:spPr>
          <a:xfrm>
            <a:off x="7010280" y="3886200"/>
            <a:ext cx="762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Line 52"/>
          <p:cNvSpPr/>
          <p:nvPr/>
        </p:nvSpPr>
        <p:spPr>
          <a:xfrm>
            <a:off x="7772400" y="3886200"/>
            <a:ext cx="228600" cy="533520"/>
          </a:xfrm>
          <a:prstGeom prst="line">
            <a:avLst/>
          </a:prstGeom>
          <a:ln cap="rnd" w="25560">
            <a:solidFill>
              <a:srgbClr val="99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Oval 53"/>
          <p:cNvSpPr/>
          <p:nvPr/>
        </p:nvSpPr>
        <p:spPr>
          <a:xfrm>
            <a:off x="7924680" y="4343400"/>
            <a:ext cx="152640" cy="152280"/>
          </a:xfrm>
          <a:prstGeom prst="ellipse">
            <a:avLst/>
          </a:prstGeom>
          <a:solidFill>
            <a:srgbClr val="808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Line 54"/>
          <p:cNvSpPr/>
          <p:nvPr/>
        </p:nvSpPr>
        <p:spPr>
          <a:xfrm>
            <a:off x="6705720" y="4419720"/>
            <a:ext cx="1600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55"/>
          <p:cNvSpPr/>
          <p:nvPr/>
        </p:nvSpPr>
        <p:spPr>
          <a:xfrm>
            <a:off x="6403320" y="2971800"/>
            <a:ext cx="190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ynchronize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Line 56"/>
          <p:cNvSpPr/>
          <p:nvPr/>
        </p:nvSpPr>
        <p:spPr>
          <a:xfrm>
            <a:off x="6553080" y="53341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57"/>
          <p:cNvSpPr/>
          <p:nvPr/>
        </p:nvSpPr>
        <p:spPr>
          <a:xfrm>
            <a:off x="6539760" y="4684680"/>
            <a:ext cx="22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Non-blocked 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Nondeterministic Behavior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= [ready(cell(0))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  <a:ea typeface="Courier New"/>
              </a:rPr>
              <a:t>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{&lt;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=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(7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, &lt;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=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(2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, &lt;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=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(c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Three receive transitions are enabled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90840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90840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90840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480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rcv: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,s(7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90840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90840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480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rcv: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,s(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90840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90840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480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rcv: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,g(c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ooter Placeholder 3"/>
          <p:cNvSpPr/>
          <p:nvPr/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F369E-4EA9-48F3-8857-24A2918A5C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" name="Straight Arrow Connector 9"/>
          <p:cNvCxnSpPr/>
          <p:nvPr/>
        </p:nvCxnSpPr>
        <p:spPr>
          <a:xfrm>
            <a:off x="1371240" y="4114440"/>
            <a:ext cx="16009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4" name="Straight Arrow Connector 18"/>
          <p:cNvCxnSpPr/>
          <p:nvPr/>
        </p:nvCxnSpPr>
        <p:spPr>
          <a:xfrm>
            <a:off x="1371240" y="5943240"/>
            <a:ext cx="16009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5" name="Straight Arrow Connector 19"/>
          <p:cNvCxnSpPr/>
          <p:nvPr/>
        </p:nvCxnSpPr>
        <p:spPr>
          <a:xfrm>
            <a:off x="1371240" y="5028840"/>
            <a:ext cx="16009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6" name="Comment 6"/>
          <p:cNvSpPr/>
          <p:nvPr/>
        </p:nvSpPr>
        <p:spPr>
          <a:xfrm>
            <a:off x="6095880" y="2590920"/>
            <a:ext cx="2514600" cy="1191240"/>
          </a:xfrm>
          <a:prstGeom prst="rect">
            <a:avLst/>
          </a:prstGeom>
          <a:solidFill>
            <a:srgbClr val="fcfdc6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Multiple enabled transitions can lead to </a:t>
            </a:r>
            <a:r>
              <a:rPr b="1" i="1" lang="en-US" sz="1800" spc="-1" strike="noStrike">
                <a:solidFill>
                  <a:srgbClr val="000000"/>
                </a:solidFill>
                <a:latin typeface="Geneva"/>
              </a:rPr>
              <a:t>nondeterministic</a:t>
            </a: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Comment 6"/>
          <p:cNvSpPr/>
          <p:nvPr/>
        </p:nvSpPr>
        <p:spPr>
          <a:xfrm>
            <a:off x="3962520" y="4191120"/>
            <a:ext cx="2514600" cy="1814760"/>
          </a:xfrm>
          <a:prstGeom prst="rect">
            <a:avLst/>
          </a:prstGeom>
          <a:solidFill>
            <a:srgbClr val="fcfdc6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The set of all computations sequences from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  <a:ea typeface="Courier New"/>
              </a:rPr>
              <a:t>0 </a:t>
            </a: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s called the </a:t>
            </a:r>
            <a:r>
              <a:rPr b="1" i="1" lang="en-US" sz="1800" spc="-1" strike="noStrike">
                <a:solidFill>
                  <a:srgbClr val="000000"/>
                </a:solidFill>
                <a:latin typeface="Geneva"/>
              </a:rPr>
              <a:t>computation tree τ</a:t>
            </a: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Footer Placeholder 4"/>
          <p:cNvSpPr/>
          <p:nvPr/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.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ED969-44CD-40DB-BC2A-6F2146F539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ree Product Behavior Revisited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modul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treeprod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d2db9"/>
                </a:solidFill>
                <a:latin typeface="Courier New"/>
              </a:rPr>
              <a:t>behavio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JoinTreeProduct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2d2db9"/>
                </a:solidFill>
                <a:latin typeface="Courier New"/>
              </a:rPr>
              <a:t>int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ad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int[]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sults){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results[0]+results[1]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2d2db9"/>
                </a:solidFill>
                <a:latin typeface="Courier New"/>
              </a:rPr>
              <a:t>int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comput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Tre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t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t.isLeaf())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.value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JoinTreeProduc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p =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new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JoinTreeProduc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JoinTreeProduc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p =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new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JoinTreeProduc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2d2db9"/>
                </a:solidFill>
                <a:latin typeface="Courier New"/>
              </a:rPr>
              <a:t>joi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p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&lt;-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pute(t.left(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p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&lt;-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pute(t.right(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1400" spc="-1" strike="noStrike">
                <a:solidFill>
                  <a:srgbClr val="2d2db9"/>
                </a:solidFill>
                <a:latin typeface="Courier New"/>
              </a:rPr>
              <a:t>@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(</a:t>
            </a:r>
            <a:r>
              <a:rPr b="1" lang="en-US" sz="1400" spc="-1" strike="noStrike">
                <a:solidFill>
                  <a:srgbClr val="2d2db9"/>
                </a:solidFill>
                <a:latin typeface="Courier New"/>
              </a:rPr>
              <a:t>toke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en-US" sz="1400" spc="-1" strike="noStrike">
                <a:solidFill>
                  <a:srgbClr val="2d2db9"/>
                </a:solidFill>
                <a:latin typeface="Courier New"/>
              </a:rPr>
              <a:t>@ currentContinuatio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Comment 6"/>
          <p:cNvSpPr/>
          <p:nvPr/>
        </p:nvSpPr>
        <p:spPr>
          <a:xfrm>
            <a:off x="5486400" y="1676520"/>
            <a:ext cx="3429000" cy="1739880"/>
          </a:xfrm>
          <a:prstGeom prst="rect">
            <a:avLst/>
          </a:prstGeom>
          <a:solidFill>
            <a:srgbClr val="fcfdc6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Notice we use token-passing continuations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@</a:t>
            </a: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oken</a:t>
            </a: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), a join block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join</a:t>
            </a: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), and a first-class continuation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urrentContinuation</a:t>
            </a: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Footer Placeholder 4"/>
          <p:cNvSpPr/>
          <p:nvPr/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.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7CE9D-1DC4-47A4-A9D5-B266A9F787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cc"/>
                </a:solidFill>
                <a:latin typeface="Times New Roman"/>
              </a:rPr>
              <a:t>Concurrency control in Erlang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rlang uses a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selective receive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echanism to help coordinate concurrent activit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imes New Roman"/>
                <a:ea typeface="ＭＳ Ｐゴシック"/>
              </a:rPr>
              <a:t>Message patterns and gu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 select the next message (from possibly many) to execu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 receive messages from a specific process (acto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 receive messages of a specific kind (pattern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imes New Roman"/>
                <a:ea typeface="ＭＳ Ｐゴシック"/>
              </a:rPr>
              <a:t>Timeo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 enable default activities to fire in the absence of messages (following certain pattern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 create tim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d2db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Times New Roman"/>
                <a:ea typeface="ＭＳ Ｐゴシック"/>
              </a:rPr>
              <a:t>Zero timeouts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(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after 0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 implement priority messages, to flush a mailbo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elective Receiv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essagePattern1 [when Guard1] -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tions1 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essagePattern2 [when Guard2] -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tions2 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suspends until a message in the actor’s mailbox matches any of the patterns including optional gua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Patterns are tried in order.  On a match, the message is removed from the mailbox and the corresponding pattern’s actions are execu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When a message does not match any of the patterns, it is left in the mailbox for futur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Footer Placeholder 3"/>
          <p:cNvSpPr/>
          <p:nvPr/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22030-3E1C-468D-8942-DCA9F65F53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elective Receive Exampl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Example program and mailbox (head at top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sg_b -&gt; 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tries to matc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sg_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and fails.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sg_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can be matched, so it is processed.  Suppose execution continu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sg_c -&gt; 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sg_a -&gt; 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The next message to be processed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sg_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since it is the next in the mailbox and it matches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Courier New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patter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Footer Placeholder 3"/>
          <p:cNvSpPr/>
          <p:nvPr/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9A96E-5277-416A-B29E-4CE55472A4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2" name=""/>
          <p:cNvGraphicFramePr/>
          <p:nvPr/>
        </p:nvGraphicFramePr>
        <p:xfrm>
          <a:off x="6477120" y="1676520"/>
          <a:ext cx="1295280" cy="1117440"/>
        </p:xfrm>
        <a:graphic>
          <a:graphicData uri="http://schemas.openxmlformats.org/drawingml/2006/table">
            <a:tbl>
              <a:tblPr/>
              <a:tblGrid>
                <a:gridCol w="1295280"/>
              </a:tblGrid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sg_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sg_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sg_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3" name=""/>
          <p:cNvGraphicFramePr/>
          <p:nvPr/>
        </p:nvGraphicFramePr>
        <p:xfrm>
          <a:off x="6477120" y="4191120"/>
          <a:ext cx="1295280" cy="812520"/>
        </p:xfrm>
        <a:graphic>
          <a:graphicData uri="http://schemas.openxmlformats.org/drawingml/2006/table">
            <a:tbl>
              <a:tblPr/>
              <a:tblGrid>
                <a:gridCol w="129528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sg_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sg_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ceiving from a specific actor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tor ! {self(), message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(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is a Built-In-Function (BIF) that returns the current (executing) process id (actor name).  Ids can be part of a mess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ActorName, Msg} when ActorName == A1 -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an then select only messages that come from a specific actor, in this example, A1.  (Or other actors that know A1’s actor na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Footer Placeholder 3"/>
          <p:cNvSpPr/>
          <p:nvPr/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A6889-B8CC-43F2-8DD1-76E4E22E69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ceiving a specific kind of message 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Val) -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crement -&gt; counter(Val+1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From,value} -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! {self(), Val}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Val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op -&gt; tru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ther -&gt; counter(V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is a behavior that can receiv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cr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messages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request messages,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t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messages.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t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message kinds are igno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Footer Placeholder 3"/>
          <p:cNvSpPr/>
          <p:nvPr/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4A2DA-0223-4177-B179-7E6FA96D22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Comment 6"/>
          <p:cNvSpPr/>
          <p:nvPr/>
        </p:nvSpPr>
        <p:spPr>
          <a:xfrm>
            <a:off x="5105520" y="2590920"/>
            <a:ext cx="2971800" cy="1191240"/>
          </a:xfrm>
          <a:prstGeom prst="rect">
            <a:avLst/>
          </a:prstGeom>
          <a:solidFill>
            <a:srgbClr val="fcfdc6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crement </a:t>
            </a: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s an atom where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Other </a:t>
            </a: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s a variable (that matches anything!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848360" cy="1143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Order of message patterns matter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{Left, Right}, Customer} -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ewCust = spawn(treeprod,join,[Customer]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P = spawn(treeprod,treeprod,[]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P = spawn(treeprod,treeprod,[]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P!{Left,NewCust}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P!{Right,NewCust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Number, Customer} -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ustomer ! 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In this example, a binary tree is represented as a tupl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Left, Right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, or a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b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, e.g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{{5,6},2},{3,4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Footer Placeholder 3"/>
          <p:cNvSpPr/>
          <p:nvPr/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E0F75-40C3-49C4-A464-21BC1D5E1A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Comment 6"/>
          <p:cNvSpPr/>
          <p:nvPr/>
        </p:nvSpPr>
        <p:spPr>
          <a:xfrm>
            <a:off x="5562720" y="2819520"/>
            <a:ext cx="2971800" cy="1739880"/>
          </a:xfrm>
          <a:prstGeom prst="rect">
            <a:avLst/>
          </a:prstGeom>
          <a:solidFill>
            <a:srgbClr val="fcfdc6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Left,Right} </a:t>
            </a: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s a more specific pattern tha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umber </a:t>
            </a: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s (which matches anything!).  Order of patterns is importa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elective Receive with Timeou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essagePattern1 [when Guard1] -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tions1 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essagePattern2 [when Guard2] -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tions2 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TimeOutExpr -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tion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imeOutExp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evaluates to an integer interpreted a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milliseco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If no message has been selected within this time, the timeout occurs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ction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are scheduled for eval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A timeout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in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means to wait indefinitely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Footer Placeholder 3"/>
          <p:cNvSpPr/>
          <p:nvPr/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B571E-6353-45CC-A855-4438CDFF3F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imer Exampl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leep(Time) -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Time -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leep(Time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suspends the current actor f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i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milliseco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Footer Placeholder 3"/>
          <p:cNvSpPr/>
          <p:nvPr/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1C174-9D24-4821-BB6E-95F90D7247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imeout Exampl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ck -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ck -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_cli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double_click_interval() -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ingle_cli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_click_interva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evaluates to the number of milliseconds expected between two consecutive mouse clicks, for the receive to return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_cli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.  Otherwise,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ingle_cli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is retur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Footer Placeholder 3"/>
          <p:cNvSpPr/>
          <p:nvPr/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4B077-5B3D-4D8C-8F0F-AA9C97B35B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ooter Placeholder 5"/>
          <p:cNvSpPr/>
          <p:nvPr/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.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49E60-68B7-4699-A8B2-34A933B5E0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1760" y="152280"/>
            <a:ext cx="7924680" cy="99072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ctors/SALSA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47320" y="1281240"/>
            <a:ext cx="487692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tor Mod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 reasoning framework to model concurrent computat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rogramming abstractions for distributed open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. Agha,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ctors: A Model of Concurrent Computation in Distributed System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MIT Press, 198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gha, Mason, Smith and Talcott, “A Foundation for Actor Computation”,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J. of Functional Programm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, 7, 1-72, 199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imple Actor Language System and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 actor-oriented language for mobile and internet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rogramming abstractions for internet-based concurrency, distribution, mobility, and coordin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. Varela and G. Agha,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rogramming dynamically reconfigurable open systems with SALSA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,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CM SIGPLAN Notices, OOPSLA 2001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36(12), pp 20-3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rcRect l="21692" t="21694" r="30956" b="731"/>
          <a:stretch/>
        </p:blipFill>
        <p:spPr>
          <a:xfrm>
            <a:off x="5479920" y="1281240"/>
            <a:ext cx="3664080" cy="450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Zero Timeou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essagePattern1 [when Guard1] -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tions1 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essagePattern2 [when Guard2] -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tions2 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0 -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tion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A timeout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means that the timeout will occur immediately, but Erlang tries all messages currently in the mailbox fir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Footer Placeholder 3"/>
          <p:cNvSpPr/>
          <p:nvPr/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80E03-66CB-4171-BC03-7645B5A026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Zero Timeout Exampl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lush_buffer() -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yMessage -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lush_buffer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0 -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lush_buffer(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ompletely empties the mailbox of the current ac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Footer Placeholder 3"/>
          <p:cNvSpPr/>
          <p:nvPr/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D606F-0CAC-4D01-9886-DCBBF879E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riority Message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ority_receive() -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rupt -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ru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0 -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yMessage -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y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ority_receive(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will return the first message in the actor’s mailbox, except if there is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rup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message, in which case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rup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will be given prior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Footer Placeholder 3"/>
          <p:cNvSpPr/>
          <p:nvPr/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0AD71-BEFF-4B8E-8735-F9E2FC06EE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Footer Placeholder 4"/>
          <p:cNvSpPr/>
          <p:nvPr/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.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3810A-FDE5-409E-9354-50CF6D316D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Exercise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4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wnload and execute the reference cell and tree product examples in SALSA and Erla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4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a solution to the Flavius Josephus problem in SALSA and Erlang.  A description of the problem is at CTM Section 7.8.3 (page 558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4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DCS Exercise 9.6.6 (page 204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4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would you implement token-passing continuations, join blocks, and first-class continuations in Erla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4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would you implement selective receive in SALS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4"/>
          <p:cNvSpPr/>
          <p:nvPr/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.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7B961-D29F-4EE4-A00E-9BA26FAD73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ference Cell Exampl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modu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e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behavi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ell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Obj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onte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Cel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Obj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initialContent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tent = initialConten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Obj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{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ontent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Obj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newContent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tent = newConte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Comment 6"/>
          <p:cNvSpPr/>
          <p:nvPr/>
        </p:nvSpPr>
        <p:spPr>
          <a:xfrm>
            <a:off x="3886200" y="2666880"/>
            <a:ext cx="3505320" cy="368280"/>
          </a:xfrm>
          <a:prstGeom prst="rect">
            <a:avLst/>
          </a:prstGeom>
          <a:solidFill>
            <a:srgbClr val="fcfdc6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Encapsulated stat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ent</a:t>
            </a: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Comment 6"/>
          <p:cNvSpPr/>
          <p:nvPr/>
        </p:nvSpPr>
        <p:spPr>
          <a:xfrm>
            <a:off x="5867280" y="3505320"/>
            <a:ext cx="2362320" cy="368280"/>
          </a:xfrm>
          <a:prstGeom prst="rect">
            <a:avLst/>
          </a:prstGeom>
          <a:solidFill>
            <a:srgbClr val="fcfdc6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Actor construc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Comment 6"/>
          <p:cNvSpPr/>
          <p:nvPr/>
        </p:nvSpPr>
        <p:spPr>
          <a:xfrm>
            <a:off x="5943600" y="4724280"/>
            <a:ext cx="2362320" cy="368280"/>
          </a:xfrm>
          <a:prstGeom prst="rect">
            <a:avLst/>
          </a:prstGeom>
          <a:solidFill>
            <a:srgbClr val="fcfdc6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Message handl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Comment 6"/>
          <p:cNvSpPr/>
          <p:nvPr/>
        </p:nvSpPr>
        <p:spPr>
          <a:xfrm>
            <a:off x="1828800" y="5562720"/>
            <a:ext cx="2362320" cy="368280"/>
          </a:xfrm>
          <a:prstGeom prst="rect">
            <a:avLst/>
          </a:prstGeom>
          <a:solidFill>
            <a:srgbClr val="fcfdc6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State chang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.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B38BF-6082-4887-9DEA-88F5DF446B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ell Tester Exampl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modul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cel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behavio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CellTester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voi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ac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String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] args 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Cell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c =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new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Cell(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&lt;-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set(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&lt;-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set(7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2d2db9"/>
                </a:solidFill>
                <a:latin typeface="Courier New"/>
              </a:rPr>
              <a:t>toke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 = c </a:t>
            </a:r>
            <a:r>
              <a:rPr b="1" lang="en-US" sz="1400" spc="-1" strike="noStrike">
                <a:solidFill>
                  <a:srgbClr val="2d2db9"/>
                </a:solidFill>
                <a:latin typeface="Courier New"/>
              </a:rPr>
              <a:t>&lt;-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e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andardOutput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&lt;-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ln( t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Comment 6"/>
          <p:cNvSpPr/>
          <p:nvPr/>
        </p:nvSpPr>
        <p:spPr>
          <a:xfrm>
            <a:off x="4038480" y="3048120"/>
            <a:ext cx="2743200" cy="368280"/>
          </a:xfrm>
          <a:prstGeom prst="rect">
            <a:avLst/>
          </a:prstGeom>
          <a:solidFill>
            <a:srgbClr val="fcfdc6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Actor creation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Comment 6"/>
          <p:cNvSpPr/>
          <p:nvPr/>
        </p:nvSpPr>
        <p:spPr>
          <a:xfrm>
            <a:off x="5105520" y="3581280"/>
            <a:ext cx="2666880" cy="368280"/>
          </a:xfrm>
          <a:prstGeom prst="rect">
            <a:avLst/>
          </a:prstGeom>
          <a:solidFill>
            <a:srgbClr val="fcfdc6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Message passing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-</a:t>
            </a: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Comment 6"/>
          <p:cNvSpPr/>
          <p:nvPr/>
        </p:nvSpPr>
        <p:spPr>
          <a:xfrm>
            <a:off x="3352680" y="4343400"/>
            <a:ext cx="2667240" cy="2014200"/>
          </a:xfrm>
          <a:prstGeom prst="rect">
            <a:avLst/>
          </a:prstGeom>
          <a:solidFill>
            <a:srgbClr val="fcfdc6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ln</a:t>
            </a: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 message can only be processed when </a:t>
            </a:r>
            <a:r>
              <a:rPr b="1" i="1" lang="en-US" sz="1800" spc="-1" strike="noStrike">
                <a:solidFill>
                  <a:srgbClr val="000000"/>
                </a:solidFill>
                <a:latin typeface="Geneva"/>
              </a:rPr>
              <a:t>token</a:t>
            </a: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from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’s get() </a:t>
            </a: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message handler has been produc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ference Cell in Erlang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module(cell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export([cell/1]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ell(Content) -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set, NewContent} -&gt; cell(NewContent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get, Customer}   -&gt; Customer !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ell(Conte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Footer Placeholder 3"/>
          <p:cNvSpPr/>
          <p:nvPr/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1CB99-FDA2-4ADD-9424-B3201BBA16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Comment 6"/>
          <p:cNvSpPr/>
          <p:nvPr/>
        </p:nvSpPr>
        <p:spPr>
          <a:xfrm>
            <a:off x="2666880" y="2209680"/>
            <a:ext cx="3505320" cy="368280"/>
          </a:xfrm>
          <a:prstGeom prst="rect">
            <a:avLst/>
          </a:prstGeom>
          <a:solidFill>
            <a:srgbClr val="fcfdc6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Encapsulated stat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ent</a:t>
            </a: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Comment 6"/>
          <p:cNvSpPr/>
          <p:nvPr/>
        </p:nvSpPr>
        <p:spPr>
          <a:xfrm>
            <a:off x="0" y="2895480"/>
            <a:ext cx="1143000" cy="1191240"/>
          </a:xfrm>
          <a:prstGeom prst="rect">
            <a:avLst/>
          </a:prstGeom>
          <a:solidFill>
            <a:srgbClr val="fcfdc6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Message handl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Comment 6"/>
          <p:cNvSpPr/>
          <p:nvPr/>
        </p:nvSpPr>
        <p:spPr>
          <a:xfrm>
            <a:off x="5334120" y="2743200"/>
            <a:ext cx="2361960" cy="368280"/>
          </a:xfrm>
          <a:prstGeom prst="rect">
            <a:avLst/>
          </a:prstGeom>
          <a:solidFill>
            <a:srgbClr val="fcfdc6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State chang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Comment 6"/>
          <p:cNvSpPr/>
          <p:nvPr/>
        </p:nvSpPr>
        <p:spPr>
          <a:xfrm>
            <a:off x="2133720" y="4343400"/>
            <a:ext cx="3504960" cy="1739880"/>
          </a:xfrm>
          <a:prstGeom prst="rect">
            <a:avLst/>
          </a:prstGeom>
          <a:solidFill>
            <a:srgbClr val="fcfdc6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eneva"/>
              </a:rPr>
              <a:t>Explicit control loop:  </a:t>
            </a: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Actions at the end of a message need to include tail-recursive function call.  Otherwise actor (process) termina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ell Tester in Erlang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module(cellTester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export([main/0]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() -&gt; C = spawn(cell,cell,[0]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!{set,2}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!{set,7}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!{get,self()}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-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o:format(</a:t>
            </a:r>
            <a:r>
              <a:rPr b="1" lang="pl-PL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~w~n”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[Value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Footer Placeholder 3"/>
          <p:cNvSpPr/>
          <p:nvPr/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5027E-0E16-4AEB-B1E4-C1419F25DB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Comment 6"/>
          <p:cNvSpPr/>
          <p:nvPr/>
        </p:nvSpPr>
        <p:spPr>
          <a:xfrm>
            <a:off x="4572000" y="2209680"/>
            <a:ext cx="2743200" cy="368280"/>
          </a:xfrm>
          <a:prstGeom prst="rect">
            <a:avLst/>
          </a:prstGeom>
          <a:solidFill>
            <a:srgbClr val="fcfdc6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Actor creation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pawn</a:t>
            </a: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Comment 6"/>
          <p:cNvSpPr/>
          <p:nvPr/>
        </p:nvSpPr>
        <p:spPr>
          <a:xfrm>
            <a:off x="3809880" y="2743200"/>
            <a:ext cx="2667240" cy="368280"/>
          </a:xfrm>
          <a:prstGeom prst="rect">
            <a:avLst/>
          </a:prstGeom>
          <a:solidFill>
            <a:srgbClr val="fcfdc6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Message passing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!</a:t>
            </a: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Comment 6"/>
          <p:cNvSpPr/>
          <p:nvPr/>
        </p:nvSpPr>
        <p:spPr>
          <a:xfrm>
            <a:off x="5410080" y="3429000"/>
            <a:ext cx="2971800" cy="642600"/>
          </a:xfrm>
          <a:prstGeom prst="rect">
            <a:avLst/>
          </a:prstGeom>
          <a:solidFill>
            <a:srgbClr val="fcfdc6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</a:t>
            </a: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 waits until a message is availa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1T13:45:06Z</dcterms:created>
  <dc:creator>Rich</dc:creator>
  <dc:description/>
  <dc:language>en-US</dc:language>
  <cp:lastModifiedBy>Carlos Varela</cp:lastModifiedBy>
  <cp:lastPrinted>2015-10-16T15:53:10Z</cp:lastPrinted>
  <dcterms:modified xsi:type="dcterms:W3CDTF">2015-10-16T20:47:40Z</dcterms:modified>
  <cp:revision>429</cp:revision>
  <dc:subject/>
  <dc:title>Data Abstraction and State Abstract Data Types (3.7) State/Data Abstraction(6.1, 6.3, 6.4.1, 6.4.2)</dc:title>
</cp:coreProperties>
</file>