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-36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227880"/>
            <a:ext cx="2922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3AD-ECE5-46C8-ACA3-CEA731B6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341-55E6-4AF8-B35B-CB2233A0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931-5827-465B-84B2-D4048312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133E-6C08-46D0-BC34-423971B9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A210-4DAD-4549-BED3-A23A21A8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F98-E865-4810-BC03-29FADDA1E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8365-513F-437D-8501-321CE092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ED6-6FB4-4F3F-8896-ABE2642A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F397-F951-4E15-AC1B-17B50741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A8EF-57F2-4854-8C94-107A517F5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1A0-9315-4466-92D8-A478299A3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50EC-35DB-4839-A871-E8A5906A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E8F2-46B5-426C-B975-D078C2D9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46C0-F6CE-44DD-9369-92ED1234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39A5-79BA-4CC0-916E-5C55B955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2F1E-31C0-46C5-A0DA-E0A19F605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C7CD-3134-467B-B21C-9FE79BA84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D7D9-BB85-4F83-BB75-3D0643880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70F-E8CE-4FA6-A354-82C10AF63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1AB9-97B0-41EE-B18B-F8AC7151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B3F8-63BE-4D1B-8457-742F588F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A6F-2198-40B5-989A-5FFDAEEE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556-C0FA-419D-B214-FB538ACB3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BDA9-A5ED-477D-BFBB-3949F6ED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A2B-6725-4806-8411-CC961B02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22840" y="9228240"/>
            <a:ext cx="2922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092-F2C3-4BC3-AF4A-A9CAF87F4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4464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99640" y="4614840"/>
            <a:ext cx="4945320" cy="43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729-6F96-44E6-BACB-9CAB56DE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290-83E5-4D93-9335-44E1C102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88D-0EF6-44DC-987E-AC68B5F7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F7D-5875-4CD0-8959-F38318F4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D56-2732-41EE-A861-4AE6564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9FE-C0DC-4D9A-84FC-15AF059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6B6-9DA0-4B0F-87F1-EE271C6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BC2-6C5D-4E1C-879F-A86279D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747-058D-45F6-AB57-7583E87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F28-509A-4BDF-90E6-E7F73EA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1F8-359C-41D8-BF6A-16D8227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FF5-B30B-4E10-8B65-EC4A6AE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134-D5C1-4541-8D37-660FD1BBE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48D-262D-49C4-8525-94F3A652D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2590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Logic Programming </a:t>
            </a:r>
            <a:br>
              <a:rPr sz="4400"/>
            </a:b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(PLP 11, CTM 9.3)</a:t>
            </a:r>
            <a:br>
              <a:rPr sz="4400"/>
            </a:br>
            <a:r>
              <a:rPr b="0" lang="sv-SE" sz="2800" spc="-1" strike="noStrike">
                <a:solidFill>
                  <a:srgbClr val="3333cc"/>
                </a:solidFill>
                <a:latin typeface="Times New Roman"/>
              </a:rPr>
              <a:t>Prolog Imperative Control Flow:</a:t>
            </a:r>
            <a:br>
              <a:rPr sz="2800"/>
            </a:br>
            <a:r>
              <a:rPr b="0" lang="sv-SE" sz="2800" spc="-1" strike="noStrike">
                <a:solidFill>
                  <a:srgbClr val="3333cc"/>
                </a:solidFill>
                <a:latin typeface="Times New Roman"/>
              </a:rPr>
              <a:t> Backtracking, Cut, Fail, Not</a:t>
            </a:r>
            <a:br>
              <a:rPr sz="2800"/>
            </a:br>
            <a:r>
              <a:rPr b="0" lang="sv-SE" sz="2800" spc="-1" strike="noStrike">
                <a:solidFill>
                  <a:srgbClr val="3333cc"/>
                </a:solidFill>
                <a:latin typeface="Times New Roman"/>
              </a:rPr>
              <a:t>Lists, Appen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Carlos Va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nnselaer Polytechnic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ovember 17,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Rectangle 8"/>
          <p:cNvSpPr/>
          <p:nvPr/>
        </p:nvSpPr>
        <p:spPr>
          <a:xfrm>
            <a:off x="542880" y="1360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25A5-462C-446F-85E3-0B91D184A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3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seattle) :- !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X) :- rainy(X), col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tro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5029200" y="1828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572000" y="2209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4114440" y="2590920"/>
            <a:ext cx="68580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10240" y="4038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 flipH="1">
            <a:off x="3885840" y="2590920"/>
            <a:ext cx="68580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5"/>
          <p:cNvSpPr/>
          <p:nvPr/>
        </p:nvSpPr>
        <p:spPr>
          <a:xfrm flipH="1">
            <a:off x="2971800" y="4343400"/>
            <a:ext cx="83808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4495680" y="4191120"/>
            <a:ext cx="205740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6553080" y="1523880"/>
            <a:ext cx="2438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 = troy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 SUCC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nly rainy(X) is committed to bindings (X = seattl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0"/>
          <p:cNvSpPr/>
          <p:nvPr/>
        </p:nvSpPr>
        <p:spPr>
          <a:xfrm flipH="1">
            <a:off x="3733560" y="4495680"/>
            <a:ext cx="99036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4724280" y="4495680"/>
            <a:ext cx="175284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32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990720" y="58672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8380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5"/>
          <p:cNvSpPr/>
          <p:nvPr/>
        </p:nvSpPr>
        <p:spPr>
          <a:xfrm>
            <a:off x="698400" y="5943600"/>
            <a:ext cx="520920" cy="888840"/>
          </a:xfrm>
          <a:custGeom>
            <a:avLst/>
            <a:gdLst>
              <a:gd name="textAreaLeft" fmla="*/ 0 w 520920"/>
              <a:gd name="textAreaRight" fmla="*/ 521280 w 5209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328" h="560">
                <a:moveTo>
                  <a:pt x="40" y="48"/>
                </a:moveTo>
                <a:cubicBezTo>
                  <a:pt x="20" y="228"/>
                  <a:pt x="0" y="408"/>
                  <a:pt x="40" y="480"/>
                </a:cubicBezTo>
                <a:cubicBezTo>
                  <a:pt x="80" y="552"/>
                  <a:pt x="232" y="560"/>
                  <a:pt x="280" y="480"/>
                </a:cubicBezTo>
                <a:cubicBezTo>
                  <a:pt x="328" y="400"/>
                  <a:pt x="328" y="200"/>
                  <a:pt x="328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4878000" y="2438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7"/>
          <p:cNvSpPr/>
          <p:nvPr/>
        </p:nvSpPr>
        <p:spPr>
          <a:xfrm>
            <a:off x="5410080" y="2590920"/>
            <a:ext cx="68580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8"/>
          <p:cNvSpPr/>
          <p:nvPr/>
        </p:nvSpPr>
        <p:spPr>
          <a:xfrm>
            <a:off x="5562720" y="2590920"/>
            <a:ext cx="76176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5638680" y="3657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tro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 flipH="1">
            <a:off x="4647960" y="3048120"/>
            <a:ext cx="228600" cy="53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41"/>
          <p:cNvSpPr/>
          <p:nvPr/>
        </p:nvSpPr>
        <p:spPr>
          <a:xfrm>
            <a:off x="4876920" y="2793960"/>
            <a:ext cx="990360" cy="863640"/>
          </a:xfrm>
          <a:custGeom>
            <a:avLst/>
            <a:gdLst>
              <a:gd name="textAreaLeft" fmla="*/ 0 w 990360"/>
              <a:gd name="textAreaRight" fmla="*/ 990720 w 990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24" h="544">
                <a:moveTo>
                  <a:pt x="0" y="160"/>
                </a:moveTo>
                <a:cubicBezTo>
                  <a:pt x="92" y="80"/>
                  <a:pt x="184" y="0"/>
                  <a:pt x="288" y="64"/>
                </a:cubicBezTo>
                <a:cubicBezTo>
                  <a:pt x="392" y="128"/>
                  <a:pt x="508" y="336"/>
                  <a:pt x="624" y="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42"/>
          <p:cNvSpPr/>
          <p:nvPr/>
        </p:nvSpPr>
        <p:spPr>
          <a:xfrm>
            <a:off x="6095880" y="3962520"/>
            <a:ext cx="520920" cy="317520"/>
          </a:xfrm>
          <a:custGeom>
            <a:avLst/>
            <a:gdLst>
              <a:gd name="textAreaLeft" fmla="*/ 0 w 520920"/>
              <a:gd name="textAreaRight" fmla="*/ 521280 w 520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328" h="200">
                <a:moveTo>
                  <a:pt x="0" y="48"/>
                </a:moveTo>
                <a:cubicBezTo>
                  <a:pt x="124" y="124"/>
                  <a:pt x="248" y="200"/>
                  <a:pt x="288" y="192"/>
                </a:cubicBezTo>
                <a:cubicBezTo>
                  <a:pt x="328" y="184"/>
                  <a:pt x="248" y="32"/>
                  <a:pt x="2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3"/>
          <p:cNvSpPr/>
          <p:nvPr/>
        </p:nvSpPr>
        <p:spPr>
          <a:xfrm>
            <a:off x="6095880" y="2895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C = tr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5410080" y="1828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5"/>
          <p:cNvSpPr/>
          <p:nvPr/>
        </p:nvSpPr>
        <p:spPr>
          <a:xfrm flipH="1">
            <a:off x="838080" y="5105520"/>
            <a:ext cx="15264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6"/>
          <p:cNvSpPr/>
          <p:nvPr/>
        </p:nvSpPr>
        <p:spPr>
          <a:xfrm flipH="1">
            <a:off x="1371600" y="5105520"/>
            <a:ext cx="99072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7"/>
          <p:cNvSpPr/>
          <p:nvPr/>
        </p:nvSpPr>
        <p:spPr>
          <a:xfrm flipH="1">
            <a:off x="3581280" y="4419720"/>
            <a:ext cx="533520" cy="30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8"/>
          <p:cNvSpPr/>
          <p:nvPr/>
        </p:nvSpPr>
        <p:spPr>
          <a:xfrm>
            <a:off x="3251160" y="4724280"/>
            <a:ext cx="482760" cy="330480"/>
          </a:xfrm>
          <a:custGeom>
            <a:avLst/>
            <a:gdLst>
              <a:gd name="textAreaLeft" fmla="*/ 0 w 482760"/>
              <a:gd name="textAreaRight" fmla="*/ 483120 w 4827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304" h="208">
                <a:moveTo>
                  <a:pt x="208" y="0"/>
                </a:moveTo>
                <a:cubicBezTo>
                  <a:pt x="104" y="88"/>
                  <a:pt x="0" y="176"/>
                  <a:pt x="16" y="192"/>
                </a:cubicBezTo>
                <a:cubicBezTo>
                  <a:pt x="32" y="208"/>
                  <a:pt x="168" y="152"/>
                  <a:pt x="304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F96-0342-4960-A86D-40113D1D4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4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X) :-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, rainy(X), cold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B148-4D04-48B4-9025-A179891ED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4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X) :- </a:t>
            </a: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, rainy(X), col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41148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3657600" y="2971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41148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748320" y="4060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3886200" y="25909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3886200" y="32767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24"/>
          <p:cNvSpPr/>
          <p:nvPr/>
        </p:nvSpPr>
        <p:spPr>
          <a:xfrm>
            <a:off x="228600" y="5105520"/>
            <a:ext cx="1752480" cy="7617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912" h="568">
                <a:moveTo>
                  <a:pt x="336" y="0"/>
                </a:moveTo>
                <a:cubicBezTo>
                  <a:pt x="168" y="244"/>
                  <a:pt x="0" y="488"/>
                  <a:pt x="96" y="528"/>
                </a:cubicBezTo>
                <a:cubicBezTo>
                  <a:pt x="192" y="568"/>
                  <a:pt x="552" y="404"/>
                  <a:pt x="912" y="24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5"/>
          <p:cNvSpPr/>
          <p:nvPr/>
        </p:nvSpPr>
        <p:spPr>
          <a:xfrm flipH="1">
            <a:off x="3047760" y="4343400"/>
            <a:ext cx="144756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8"/>
          <p:cNvSpPr/>
          <p:nvPr/>
        </p:nvSpPr>
        <p:spPr>
          <a:xfrm>
            <a:off x="4495680" y="4343400"/>
            <a:ext cx="2057400" cy="304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9"/>
          <p:cNvSpPr/>
          <p:nvPr/>
        </p:nvSpPr>
        <p:spPr>
          <a:xfrm>
            <a:off x="7086600" y="38098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cold(seattle) fails; 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backtrack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30"/>
          <p:cNvSpPr/>
          <p:nvPr/>
        </p:nvSpPr>
        <p:spPr>
          <a:xfrm>
            <a:off x="4191120" y="53341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1"/>
          <p:cNvSpPr/>
          <p:nvPr/>
        </p:nvSpPr>
        <p:spPr>
          <a:xfrm flipH="1">
            <a:off x="3200400" y="4495680"/>
            <a:ext cx="14479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4648320" y="4495680"/>
            <a:ext cx="1828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3"/>
          <p:cNvSpPr/>
          <p:nvPr/>
        </p:nvSpPr>
        <p:spPr>
          <a:xfrm>
            <a:off x="2971800" y="5181480"/>
            <a:ext cx="12193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34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3962520" y="49528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X = ro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6"/>
          <p:cNvSpPr/>
          <p:nvPr/>
        </p:nvSpPr>
        <p:spPr>
          <a:xfrm>
            <a:off x="3581280" y="5029200"/>
            <a:ext cx="68580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7"/>
          <p:cNvSpPr/>
          <p:nvPr/>
        </p:nvSpPr>
        <p:spPr>
          <a:xfrm flipH="1">
            <a:off x="3580920" y="4648320"/>
            <a:ext cx="12193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4800600" y="4648320"/>
            <a:ext cx="236232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39"/>
          <p:cNvSpPr/>
          <p:nvPr/>
        </p:nvSpPr>
        <p:spPr>
          <a:xfrm>
            <a:off x="7162920" y="4419720"/>
            <a:ext cx="1066680" cy="1676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0"/>
          <p:cNvSpPr/>
          <p:nvPr/>
        </p:nvSpPr>
        <p:spPr>
          <a:xfrm>
            <a:off x="4419720" y="3657600"/>
            <a:ext cx="289548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1"/>
          <p:cNvSpPr/>
          <p:nvPr/>
        </p:nvSpPr>
        <p:spPr>
          <a:xfrm>
            <a:off x="4419720" y="25909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2"/>
          <p:cNvSpPr/>
          <p:nvPr/>
        </p:nvSpPr>
        <p:spPr>
          <a:xfrm>
            <a:off x="4419720" y="32767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4572000" y="3276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4"/>
          <p:cNvSpPr/>
          <p:nvPr/>
        </p:nvSpPr>
        <p:spPr>
          <a:xfrm flipH="1">
            <a:off x="990360" y="3886200"/>
            <a:ext cx="25146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5"/>
          <p:cNvSpPr/>
          <p:nvPr/>
        </p:nvSpPr>
        <p:spPr>
          <a:xfrm>
            <a:off x="685800" y="43434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47"/>
          <p:cNvSpPr/>
          <p:nvPr/>
        </p:nvSpPr>
        <p:spPr>
          <a:xfrm flipH="1">
            <a:off x="685800" y="3733920"/>
            <a:ext cx="281952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8"/>
          <p:cNvSpPr/>
          <p:nvPr/>
        </p:nvSpPr>
        <p:spPr>
          <a:xfrm flipH="1">
            <a:off x="1295280" y="3962520"/>
            <a:ext cx="228600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431640" y="4191120"/>
            <a:ext cx="863640" cy="571320"/>
          </a:xfrm>
          <a:custGeom>
            <a:avLst/>
            <a:gdLst>
              <a:gd name="textAreaLeft" fmla="*/ 0 w 863640"/>
              <a:gd name="textAreaRight" fmla="*/ 864000 w 86364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544" h="360">
                <a:moveTo>
                  <a:pt x="160" y="0"/>
                </a:moveTo>
                <a:cubicBezTo>
                  <a:pt x="80" y="156"/>
                  <a:pt x="0" y="312"/>
                  <a:pt x="64" y="336"/>
                </a:cubicBezTo>
                <a:cubicBezTo>
                  <a:pt x="128" y="360"/>
                  <a:pt x="336" y="252"/>
                  <a:pt x="544" y="14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2FF-7BDA-46D5-9014-417AB88E1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5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X) :- rainy(X), cold(X),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E9D5-D0DE-4FEE-9221-27A5B4E94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5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X) :- rainy(X), cold(X), </a:t>
            </a: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41148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657600" y="2971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41148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748320" y="4060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0"/>
          <p:cNvSpPr/>
          <p:nvPr/>
        </p:nvSpPr>
        <p:spPr>
          <a:xfrm>
            <a:off x="3886200" y="25909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3886200" y="32767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24"/>
          <p:cNvSpPr/>
          <p:nvPr/>
        </p:nvSpPr>
        <p:spPr>
          <a:xfrm>
            <a:off x="228600" y="5105520"/>
            <a:ext cx="1752480" cy="7617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912" h="568">
                <a:moveTo>
                  <a:pt x="336" y="0"/>
                </a:moveTo>
                <a:cubicBezTo>
                  <a:pt x="168" y="244"/>
                  <a:pt x="0" y="488"/>
                  <a:pt x="96" y="528"/>
                </a:cubicBezTo>
                <a:cubicBezTo>
                  <a:pt x="192" y="568"/>
                  <a:pt x="552" y="404"/>
                  <a:pt x="912" y="24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5"/>
          <p:cNvSpPr/>
          <p:nvPr/>
        </p:nvSpPr>
        <p:spPr>
          <a:xfrm flipH="1">
            <a:off x="3047760" y="4343400"/>
            <a:ext cx="144756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4495680" y="4343400"/>
            <a:ext cx="2057400" cy="304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30"/>
          <p:cNvSpPr/>
          <p:nvPr/>
        </p:nvSpPr>
        <p:spPr>
          <a:xfrm>
            <a:off x="4191120" y="53341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H="1">
            <a:off x="3200400" y="4495680"/>
            <a:ext cx="14479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4648320" y="4495680"/>
            <a:ext cx="1828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>
            <a:off x="2971800" y="5181480"/>
            <a:ext cx="12193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34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5"/>
          <p:cNvSpPr/>
          <p:nvPr/>
        </p:nvSpPr>
        <p:spPr>
          <a:xfrm>
            <a:off x="3962520" y="49528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X = ro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>
            <a:off x="3581280" y="5029200"/>
            <a:ext cx="68580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3580920" y="4648320"/>
            <a:ext cx="12193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>
            <a:off x="4800600" y="4648320"/>
            <a:ext cx="236232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39"/>
          <p:cNvSpPr/>
          <p:nvPr/>
        </p:nvSpPr>
        <p:spPr>
          <a:xfrm>
            <a:off x="7162920" y="4495680"/>
            <a:ext cx="1371600" cy="1524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>
            <a:off x="5257800" y="4038480"/>
            <a:ext cx="21337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>
            <a:off x="4419720" y="25909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42"/>
          <p:cNvSpPr/>
          <p:nvPr/>
        </p:nvSpPr>
        <p:spPr>
          <a:xfrm>
            <a:off x="4419720" y="32767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3"/>
          <p:cNvSpPr/>
          <p:nvPr/>
        </p:nvSpPr>
        <p:spPr>
          <a:xfrm>
            <a:off x="4572000" y="3276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44"/>
          <p:cNvSpPr/>
          <p:nvPr/>
        </p:nvSpPr>
        <p:spPr>
          <a:xfrm>
            <a:off x="4648320" y="3886200"/>
            <a:ext cx="33526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5"/>
          <p:cNvSpPr/>
          <p:nvPr/>
        </p:nvSpPr>
        <p:spPr>
          <a:xfrm flipH="1">
            <a:off x="8077320" y="41911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46"/>
          <p:cNvSpPr/>
          <p:nvPr/>
        </p:nvSpPr>
        <p:spPr>
          <a:xfrm>
            <a:off x="4419720" y="3657600"/>
            <a:ext cx="350496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5334120" y="4038480"/>
            <a:ext cx="26668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49"/>
          <p:cNvSpPr/>
          <p:nvPr/>
        </p:nvSpPr>
        <p:spPr>
          <a:xfrm>
            <a:off x="7924680" y="4038480"/>
            <a:ext cx="774720" cy="520920"/>
          </a:xfrm>
          <a:custGeom>
            <a:avLst/>
            <a:gdLst>
              <a:gd name="textAreaLeft" fmla="*/ 0 w 774720"/>
              <a:gd name="textAreaRight" fmla="*/ 775080 w 774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488" h="328">
                <a:moveTo>
                  <a:pt x="48" y="240"/>
                </a:moveTo>
                <a:cubicBezTo>
                  <a:pt x="268" y="284"/>
                  <a:pt x="488" y="328"/>
                  <a:pt x="480" y="288"/>
                </a:cubicBezTo>
                <a:cubicBezTo>
                  <a:pt x="472" y="248"/>
                  <a:pt x="236" y="124"/>
                  <a:pt x="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0AE1-906B-48EA-B363-EE773E073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First-Class Ter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143000" y="1752480"/>
          <a:ext cx="7010280" cy="3759480"/>
        </p:xfrm>
        <a:graphic>
          <a:graphicData uri="http://schemas.openxmlformats.org/drawingml/2006/table">
            <a:tbl>
              <a:tblPr/>
              <a:tblGrid>
                <a:gridCol w="3886200"/>
                <a:gridCol w="3124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call(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oke predicate as a go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assert(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s predicate to datab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retract(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s predicate from datab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functor(T,F,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eds i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ith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dall(F,P,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 a list L with elements F satisfying predicate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659B-199C-4AE9-8A46-6043A755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Courier New"/>
              </a:rPr>
              <a:t>not P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 is not  </a:t>
            </a:r>
            <a:r>
              <a:rPr b="0" lang="fr-FR" sz="4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fr-FR" sz="4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 Prolog, the database of facts and rules includes a list of things assumed to be 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tr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t does not include anything assumed to be 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</a:rPr>
              <a:t>fals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less our database contains everything that i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the </a:t>
            </a:r>
            <a:r>
              <a:rPr b="0" i="1" lang="fr-FR" sz="2000" spc="-1" strike="noStrike">
                <a:solidFill>
                  <a:srgbClr val="3333cc"/>
                </a:solidFill>
                <a:latin typeface="Times New Roman"/>
              </a:rPr>
              <a:t>closed-world assump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 the goal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ot 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(o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\+ 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in some Prolog implementations) can succeed simply because our current knowledge is insufficient to prov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951B-7867-47BB-819F-F1E04CB6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More </a:t>
            </a:r>
            <a:r>
              <a:rPr b="0" lang="fr-FR" sz="4400" spc="-1" strike="noStrike">
                <a:solidFill>
                  <a:srgbClr val="3333cc"/>
                </a:solidFill>
                <a:latin typeface="Courier New"/>
              </a:rPr>
              <a:t>not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vs </a:t>
            </a:r>
            <a:r>
              <a:rPr b="0" lang="fr-FR" sz="4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133360" y="18284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snowy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X = ro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not(snowy(X)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log does not reply:  </a:t>
            </a:r>
            <a:r>
              <a:rPr b="1" lang="fr-FR" sz="1800" spc="-1" strike="noStrike">
                <a:solidFill>
                  <a:srgbClr val="3333cc"/>
                </a:solidFill>
                <a:latin typeface="Courier New"/>
              </a:rPr>
              <a:t>X = seatt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he meaning of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not(snowy(X)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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X [snowy(X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ather th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X [</a:t>
            </a:r>
            <a:r>
              <a:rPr b="0" lang="fr-FR" sz="1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nowy(X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B51-5A01-4492-819D-0E21912F2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Fail, true, repe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143000" y="1752480"/>
          <a:ext cx="6858000" cy="1752840"/>
        </p:xfrm>
        <a:graphic>
          <a:graphicData uri="http://schemas.openxmlformats.org/drawingml/2006/table">
            <a:tbl>
              <a:tblPr/>
              <a:tblGrid>
                <a:gridCol w="3801960"/>
                <a:gridCol w="305604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f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ls current go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succee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urier New"/>
                          <a:ea typeface="ＭＳ Ｐゴシック"/>
                        </a:rPr>
                        <a:t>rep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succeeds, provides infinite choice poi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Rectangle 27"/>
          <p:cNvSpPr/>
          <p:nvPr/>
        </p:nvSpPr>
        <p:spPr>
          <a:xfrm>
            <a:off x="2209680" y="4060800"/>
            <a:ext cx="4343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p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peat </a:t>
            </a:r>
            <a:r>
              <a:rPr b="0" lang="fr-FR" sz="2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:-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rep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9B8-F5A4-4A3C-AF2F-006E90FA2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Courier New"/>
              </a:rPr>
              <a:t>not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 Seman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not(P) </a:t>
            </a:r>
            <a:r>
              <a:rPr b="0" lang="fr-FR" sz="1600" spc="-1" strike="noStrike">
                <a:solidFill>
                  <a:srgbClr val="3333cc"/>
                </a:solidFill>
                <a:latin typeface="Courier New"/>
              </a:rPr>
              <a:t>:-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call(P), !, fai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not(P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finition of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in terms of failure (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means that variable bindings are lost whenever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succeeds, e.g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 not(not(snowy(X))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X=_G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3070-39C8-4412-901E-350279B3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Backtrack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Forward chain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goes from axioms forward into go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Backward chain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tarts from goals and works backwards to prove them with existing axi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0D1-59C9-4C7D-A9E2-C5CE3B33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onditionals and Loo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8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914400" y="1600200"/>
            <a:ext cx="75438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ment </a:t>
            </a:r>
            <a:r>
              <a:rPr b="1" lang="fr-FR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:-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condition, !, t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atement </a:t>
            </a:r>
            <a:r>
              <a:rPr b="0" lang="fr-FR" sz="2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:-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914400" y="2666880"/>
            <a:ext cx="784872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tural(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tural(N) </a:t>
            </a:r>
            <a:r>
              <a:rPr b="1" lang="fr-FR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:-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tural(M), N </a:t>
            </a:r>
            <a:r>
              <a:rPr b="0" lang="fr-FR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is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M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y_loop(N) </a:t>
            </a:r>
            <a:r>
              <a:rPr b="0" lang="fr-FR" sz="28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:-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&gt;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tural(I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rite(I), n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=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!, f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lso called </a:t>
            </a:r>
            <a:r>
              <a:rPr b="0" i="1" lang="fr-FR" sz="1800" spc="-1" strike="noStrike">
                <a:solidFill>
                  <a:srgbClr val="3333cc"/>
                </a:solidFill>
                <a:latin typeface="Times New Roman"/>
              </a:rPr>
              <a:t>generate-and-tes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0ED-64FC-4E82-AE7E-F4D40FCFC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Prolog lis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[a,b,c]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s syntactic sugar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.(a,.(b,.(c, []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[]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s the empty list, and 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is a built-in cons-like fun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[a,b,c]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n also be expressed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[a | [b,c]]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[a, b | [c]]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[a,b,c | [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50AB-8DA7-4EB3-AD08-9A9A4F96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Prolog lists appen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ppend([],L,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append([H|T], A, [H|L]) :- append(T,A,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;  Adapted w. permission from S. Haridi and P. Van 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087-4322-4E49-B992-E908ADDAF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Oz lists (Review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[a b c]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 syntactic sugar for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|’(a ’|’(b ’|’(c nil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fr-FR" sz="2400" spc="-1" strike="noStrike">
                <a:solidFill>
                  <a:srgbClr val="3333cc"/>
                </a:solidFill>
                <a:latin typeface="Courier New"/>
              </a:rPr>
              <a:t>nil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 the empty list, and </a:t>
            </a:r>
            <a:r>
              <a:rPr b="0" lang="fr-FR" sz="2400" spc="-1" strike="noStrike">
                <a:solidFill>
                  <a:srgbClr val="3333cc"/>
                </a:solidFill>
                <a:latin typeface="Courier New"/>
              </a:rPr>
              <a:t>’|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is the tuple’s fun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 list has two compon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a head, and a 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3333cc"/>
                </a:solidFill>
                <a:latin typeface="Arial Narrow"/>
              </a:rPr>
              <a:t>declare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  L = [6 7 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L.1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gives 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L.2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give </a:t>
            </a:r>
            <a:r>
              <a:rPr b="0" lang="sv-SE" sz="2400" spc="-1" strike="noStrike">
                <a:solidFill>
                  <a:srgbClr val="000000"/>
                </a:solidFill>
                <a:latin typeface="Arial Narrow"/>
              </a:rPr>
              <a:t>[7 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484600" y="3290760"/>
            <a:ext cx="40176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6262560" y="4038480"/>
            <a:ext cx="40176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7040160" y="4786200"/>
            <a:ext cx="40176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4737960" y="4038480"/>
            <a:ext cx="30888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423760" y="4800600"/>
            <a:ext cx="30888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6185880" y="5562720"/>
            <a:ext cx="30888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AutoShape 10"/>
          <p:cNvCxnSpPr>
            <a:stCxn id="397" idx="2"/>
            <a:endCxn id="400" idx="0"/>
          </p:cNvCxnSpPr>
          <p:nvPr/>
        </p:nvCxnSpPr>
        <p:spPr>
          <a:xfrm flipH="1">
            <a:off x="4892040" y="3725640"/>
            <a:ext cx="794520" cy="30060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404" name="AutoShape 11"/>
          <p:cNvCxnSpPr>
            <a:stCxn id="397" idx="2"/>
            <a:endCxn id="398" idx="0"/>
          </p:cNvCxnSpPr>
          <p:nvPr/>
        </p:nvCxnSpPr>
        <p:spPr>
          <a:xfrm>
            <a:off x="5686560" y="3725640"/>
            <a:ext cx="778320" cy="30060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405" name="AutoShape 12"/>
          <p:cNvCxnSpPr>
            <a:stCxn id="398" idx="2"/>
            <a:endCxn id="401" idx="0"/>
          </p:cNvCxnSpPr>
          <p:nvPr/>
        </p:nvCxnSpPr>
        <p:spPr>
          <a:xfrm flipH="1">
            <a:off x="5578200" y="4473360"/>
            <a:ext cx="886320" cy="31500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406" name="AutoShape 13"/>
          <p:cNvCxnSpPr>
            <a:stCxn id="398" idx="2"/>
            <a:endCxn id="399" idx="0"/>
          </p:cNvCxnSpPr>
          <p:nvPr/>
        </p:nvCxnSpPr>
        <p:spPr>
          <a:xfrm>
            <a:off x="6463800" y="4473360"/>
            <a:ext cx="778680" cy="30060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407" name="Text Box 14"/>
          <p:cNvSpPr/>
          <p:nvPr/>
        </p:nvSpPr>
        <p:spPr>
          <a:xfrm>
            <a:off x="7558200" y="5562720"/>
            <a:ext cx="448920" cy="398880"/>
          </a:xfrm>
          <a:prstGeom prst="rect">
            <a:avLst/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AutoShape 15"/>
          <p:cNvCxnSpPr>
            <a:stCxn id="399" idx="2"/>
            <a:endCxn id="402" idx="0"/>
          </p:cNvCxnSpPr>
          <p:nvPr/>
        </p:nvCxnSpPr>
        <p:spPr>
          <a:xfrm flipH="1">
            <a:off x="6339600" y="5221440"/>
            <a:ext cx="902520" cy="32904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409" name="AutoShape 16"/>
          <p:cNvCxnSpPr>
            <a:stCxn id="399" idx="2"/>
            <a:endCxn id="407" idx="0"/>
          </p:cNvCxnSpPr>
          <p:nvPr/>
        </p:nvCxnSpPr>
        <p:spPr>
          <a:xfrm>
            <a:off x="7242120" y="5221440"/>
            <a:ext cx="542160" cy="329040"/>
          </a:xfrm>
          <a:prstGeom prst="straightConnector1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; Adapted with permission from S. Haridi and P. Van Ro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55C-B397-47C9-8BB1-83DD293A0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cc"/>
                </a:solidFill>
                <a:latin typeface="Times New Roman"/>
              </a:rPr>
              <a:t>Oz lists append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800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proc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Append Xs Ys Zs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choic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Xs = nil Zs = 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[]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X Xr Zr </a:t>
            </a: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Xs=X|X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Zs=X|Z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Append Xr Ys Z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4343400" y="1523880"/>
            <a:ext cx="4038480" cy="4800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% new search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proc 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P S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  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X Y </a:t>
            </a: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     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Append X Y [1 2 3]} S=X#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% new search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E = {New </a:t>
            </a: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Search.object script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P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% calculate and display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Browse {E </a:t>
            </a: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next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($)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% calculate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{Browse {</a:t>
            </a:r>
            <a:r>
              <a:rPr b="0" lang="sv-SE" sz="2000" spc="-1" strike="noStrike">
                <a:solidFill>
                  <a:srgbClr val="3333cc"/>
                </a:solidFill>
                <a:latin typeface="Arial Narrow"/>
                <a:ea typeface="Arial Narrow"/>
              </a:rPr>
              <a:t>Search.base.all </a:t>
            </a:r>
            <a:r>
              <a:rPr b="0" lang="sv-SE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P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AE21-BC80-4D13-AD34-ED323B44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7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the following Prolog queries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rep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repeat,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1" lang="fr-FR" sz="1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repeat, f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oborate your thinking with a Prolog interpr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the search tree for the query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(not(snowy(City)))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When are variables bound/unbound in the search/backtracking pro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P Exercise 11.7 (pg 57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h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ud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ample in Oz (including th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has_taken(Student, Cours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E4FA-489D-40C6-ABB4-E8E5B2FFA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Backtracking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</a:rPr>
              <a:t>snowy(X) :- rainy(X), cold(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1148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57600" y="2971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41148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748320" y="4060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886200" y="25909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3886200" y="32767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228600" y="5105520"/>
            <a:ext cx="1752480" cy="7617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912" h="568">
                <a:moveTo>
                  <a:pt x="336" y="0"/>
                </a:moveTo>
                <a:cubicBezTo>
                  <a:pt x="168" y="244"/>
                  <a:pt x="0" y="488"/>
                  <a:pt x="96" y="528"/>
                </a:cubicBezTo>
                <a:cubicBezTo>
                  <a:pt x="192" y="568"/>
                  <a:pt x="552" y="404"/>
                  <a:pt x="912" y="24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"/>
          <p:cNvSpPr/>
          <p:nvPr/>
        </p:nvSpPr>
        <p:spPr>
          <a:xfrm flipH="1">
            <a:off x="3047760" y="4343400"/>
            <a:ext cx="1447560" cy="533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4495680" y="4343400"/>
            <a:ext cx="2057400" cy="304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7086600" y="38098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cold(seattle) fails; 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backtrack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4191120" y="53341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1"/>
          <p:cNvSpPr/>
          <p:nvPr/>
        </p:nvSpPr>
        <p:spPr>
          <a:xfrm flipH="1">
            <a:off x="3200400" y="4495680"/>
            <a:ext cx="14479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2"/>
          <p:cNvSpPr/>
          <p:nvPr/>
        </p:nvSpPr>
        <p:spPr>
          <a:xfrm>
            <a:off x="4648320" y="4495680"/>
            <a:ext cx="1828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3"/>
          <p:cNvSpPr/>
          <p:nvPr/>
        </p:nvSpPr>
        <p:spPr>
          <a:xfrm>
            <a:off x="2971800" y="5181480"/>
            <a:ext cx="12193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4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3962520" y="495288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X = ro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3581280" y="5029200"/>
            <a:ext cx="68580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7"/>
          <p:cNvSpPr/>
          <p:nvPr/>
        </p:nvSpPr>
        <p:spPr>
          <a:xfrm flipH="1">
            <a:off x="3580920" y="4648320"/>
            <a:ext cx="12193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4800600" y="4648320"/>
            <a:ext cx="236232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9"/>
          <p:cNvSpPr/>
          <p:nvPr/>
        </p:nvSpPr>
        <p:spPr>
          <a:xfrm>
            <a:off x="7162920" y="4419720"/>
            <a:ext cx="1066680" cy="1676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419720" y="3657600"/>
            <a:ext cx="289548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1"/>
          <p:cNvSpPr/>
          <p:nvPr/>
        </p:nvSpPr>
        <p:spPr>
          <a:xfrm>
            <a:off x="4419720" y="25909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4419720" y="32767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3"/>
          <p:cNvSpPr/>
          <p:nvPr/>
        </p:nvSpPr>
        <p:spPr>
          <a:xfrm>
            <a:off x="4572000" y="32767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2167-EE30-48E4-9B5A-DDD36B86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Imperative Control Flow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r has </a:t>
            </a: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explicit control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backtrack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urier New"/>
              </a:rPr>
              <a:t>Cut (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 a goal it succeeds, but with a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de effec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its interpreter to choices made since unifying parent goal with left-hand side of current rule.  Choices include variable unifications and rule to satisfy the parent go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F38E-BDCA-40DE-BB3A-EFB3B10F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X) :- rainy(X),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, cold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41A7-B33F-434A-8E1C-952B27D5B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X) :- rainy(X), </a:t>
            </a: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, col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1148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657600" y="29718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114800" y="3276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505680" y="4114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3886200" y="25909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3886200" y="327672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4"/>
          <p:cNvSpPr/>
          <p:nvPr/>
        </p:nvSpPr>
        <p:spPr>
          <a:xfrm>
            <a:off x="457200" y="5105520"/>
            <a:ext cx="1905120" cy="5331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912" h="568">
                <a:moveTo>
                  <a:pt x="336" y="0"/>
                </a:moveTo>
                <a:cubicBezTo>
                  <a:pt x="168" y="244"/>
                  <a:pt x="0" y="488"/>
                  <a:pt x="96" y="528"/>
                </a:cubicBezTo>
                <a:cubicBezTo>
                  <a:pt x="192" y="568"/>
                  <a:pt x="552" y="404"/>
                  <a:pt x="912" y="24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5"/>
          <p:cNvSpPr/>
          <p:nvPr/>
        </p:nvSpPr>
        <p:spPr>
          <a:xfrm flipH="1">
            <a:off x="3047760" y="4419720"/>
            <a:ext cx="99036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4495680" y="4343400"/>
            <a:ext cx="2057400" cy="304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6553080" y="2895480"/>
            <a:ext cx="2057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old(seattle)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 fails; 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no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 backtracking to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GOAL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4648320" y="44956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4648320" y="4495680"/>
            <a:ext cx="1828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4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4267080" y="4114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4114800" y="457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6"/>
          <p:cNvSpPr/>
          <p:nvPr/>
        </p:nvSpPr>
        <p:spPr>
          <a:xfrm>
            <a:off x="3975120" y="4343400"/>
            <a:ext cx="520560" cy="888840"/>
          </a:xfrm>
          <a:custGeom>
            <a:avLst/>
            <a:gdLst>
              <a:gd name="textAreaLeft" fmla="*/ 0 w 520560"/>
              <a:gd name="textAreaRight" fmla="*/ 520560 w 520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328" h="560">
                <a:moveTo>
                  <a:pt x="40" y="48"/>
                </a:moveTo>
                <a:cubicBezTo>
                  <a:pt x="20" y="228"/>
                  <a:pt x="0" y="408"/>
                  <a:pt x="40" y="480"/>
                </a:cubicBezTo>
                <a:cubicBezTo>
                  <a:pt x="80" y="552"/>
                  <a:pt x="232" y="560"/>
                  <a:pt x="280" y="480"/>
                </a:cubicBezTo>
                <a:cubicBezTo>
                  <a:pt x="328" y="400"/>
                  <a:pt x="328" y="200"/>
                  <a:pt x="328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7"/>
          <p:cNvSpPr/>
          <p:nvPr/>
        </p:nvSpPr>
        <p:spPr>
          <a:xfrm>
            <a:off x="4495680" y="480060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8"/>
          <p:cNvSpPr/>
          <p:nvPr/>
        </p:nvSpPr>
        <p:spPr>
          <a:xfrm>
            <a:off x="4572000" y="4876920"/>
            <a:ext cx="15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>
            <a:off x="4648320" y="4952880"/>
            <a:ext cx="75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C1F-1D20-4402-A159-05C1E2D5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X) :- rainy(X),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, cold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tro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181E-CA5B-4622-819C-E2C98BC13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seatt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X) :- rainy(X), </a:t>
            </a:r>
            <a:r>
              <a:rPr b="1" lang="fr-FR" sz="12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, cold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nowy(tro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029200" y="1828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572000" y="22096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657600" y="36576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4114440" y="2590920"/>
            <a:ext cx="68580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2590560" y="3962520"/>
            <a:ext cx="144756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4267080" y="3962520"/>
            <a:ext cx="304812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05680" y="41148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 flipH="1">
            <a:off x="976320" y="4930920"/>
            <a:ext cx="144792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652840" y="4930920"/>
            <a:ext cx="1600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2234520" y="5029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981080" y="457200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6705720" y="4648320"/>
            <a:ext cx="1218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228600" y="55627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seatt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2971800" y="5562720"/>
            <a:ext cx="2286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ainy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6324480" y="5410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ld(roche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7315200" y="49528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1"/>
          <p:cNvSpPr/>
          <p:nvPr/>
        </p:nvSpPr>
        <p:spPr>
          <a:xfrm flipH="1">
            <a:off x="3885840" y="2590920"/>
            <a:ext cx="68580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2"/>
          <p:cNvSpPr/>
          <p:nvPr/>
        </p:nvSpPr>
        <p:spPr>
          <a:xfrm flipH="1">
            <a:off x="2133360" y="3962520"/>
            <a:ext cx="1447560" cy="533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3"/>
          <p:cNvSpPr/>
          <p:nvPr/>
        </p:nvSpPr>
        <p:spPr>
          <a:xfrm flipH="1">
            <a:off x="1523880" y="4572000"/>
            <a:ext cx="45720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4"/>
          <p:cNvSpPr/>
          <p:nvPr/>
        </p:nvSpPr>
        <p:spPr>
          <a:xfrm>
            <a:off x="457200" y="5105520"/>
            <a:ext cx="1905120" cy="5331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912" h="568">
                <a:moveTo>
                  <a:pt x="336" y="0"/>
                </a:moveTo>
                <a:cubicBezTo>
                  <a:pt x="168" y="244"/>
                  <a:pt x="0" y="488"/>
                  <a:pt x="96" y="528"/>
                </a:cubicBezTo>
                <a:cubicBezTo>
                  <a:pt x="192" y="568"/>
                  <a:pt x="552" y="404"/>
                  <a:pt x="912" y="24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5"/>
          <p:cNvSpPr/>
          <p:nvPr/>
        </p:nvSpPr>
        <p:spPr>
          <a:xfrm flipH="1">
            <a:off x="3047760" y="4419720"/>
            <a:ext cx="990360" cy="4572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2514600" y="3276720"/>
            <a:ext cx="1219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_C = _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152280" y="4800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X = 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495680" y="4343400"/>
            <a:ext cx="2057400" cy="3049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9"/>
          <p:cNvSpPr/>
          <p:nvPr/>
        </p:nvSpPr>
        <p:spPr>
          <a:xfrm>
            <a:off x="6553080" y="1523880"/>
            <a:ext cx="243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 = troy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</a:rPr>
              <a:t>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nowy(X) is committed to bindings (X = seattl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GOAL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0"/>
          <p:cNvSpPr/>
          <p:nvPr/>
        </p:nvSpPr>
        <p:spPr>
          <a:xfrm flipV="1">
            <a:off x="4648320" y="441936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4648320" y="4648320"/>
            <a:ext cx="182880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2"/>
          <p:cNvSpPr/>
          <p:nvPr/>
        </p:nvSpPr>
        <p:spPr>
          <a:xfrm>
            <a:off x="6477120" y="4648320"/>
            <a:ext cx="469800" cy="419040"/>
          </a:xfrm>
          <a:custGeom>
            <a:avLst/>
            <a:gdLst>
              <a:gd name="textAreaLeft" fmla="*/ 0 w 469800"/>
              <a:gd name="textAreaRight" fmla="*/ 470160 w 4698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96" h="264">
                <a:moveTo>
                  <a:pt x="48" y="0"/>
                </a:moveTo>
                <a:cubicBezTo>
                  <a:pt x="172" y="108"/>
                  <a:pt x="296" y="216"/>
                  <a:pt x="288" y="240"/>
                </a:cubicBezTo>
                <a:cubicBezTo>
                  <a:pt x="280" y="264"/>
                  <a:pt x="48" y="160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3"/>
          <p:cNvSpPr/>
          <p:nvPr/>
        </p:nvSpPr>
        <p:spPr>
          <a:xfrm>
            <a:off x="4267080" y="4114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4114800" y="457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35"/>
          <p:cNvSpPr/>
          <p:nvPr/>
        </p:nvSpPr>
        <p:spPr>
          <a:xfrm>
            <a:off x="3975120" y="4343400"/>
            <a:ext cx="520560" cy="888840"/>
          </a:xfrm>
          <a:custGeom>
            <a:avLst/>
            <a:gdLst>
              <a:gd name="textAreaLeft" fmla="*/ 0 w 520560"/>
              <a:gd name="textAreaRight" fmla="*/ 520560 w 520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328" h="560">
                <a:moveTo>
                  <a:pt x="40" y="48"/>
                </a:moveTo>
                <a:cubicBezTo>
                  <a:pt x="20" y="228"/>
                  <a:pt x="0" y="408"/>
                  <a:pt x="40" y="480"/>
                </a:cubicBezTo>
                <a:cubicBezTo>
                  <a:pt x="80" y="552"/>
                  <a:pt x="232" y="560"/>
                  <a:pt x="280" y="480"/>
                </a:cubicBezTo>
                <a:cubicBezTo>
                  <a:pt x="328" y="400"/>
                  <a:pt x="328" y="200"/>
                  <a:pt x="328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4878000" y="2438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5410080" y="2590920"/>
            <a:ext cx="68580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2"/>
          <p:cNvSpPr/>
          <p:nvPr/>
        </p:nvSpPr>
        <p:spPr>
          <a:xfrm>
            <a:off x="5562720" y="2590920"/>
            <a:ext cx="76176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5638680" y="36576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nowy(tro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4"/>
          <p:cNvSpPr/>
          <p:nvPr/>
        </p:nvSpPr>
        <p:spPr>
          <a:xfrm flipH="1">
            <a:off x="4647960" y="3048120"/>
            <a:ext cx="228600" cy="533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5"/>
          <p:cNvSpPr/>
          <p:nvPr/>
        </p:nvSpPr>
        <p:spPr>
          <a:xfrm>
            <a:off x="4876920" y="2793960"/>
            <a:ext cx="990360" cy="863640"/>
          </a:xfrm>
          <a:custGeom>
            <a:avLst/>
            <a:gdLst>
              <a:gd name="textAreaLeft" fmla="*/ 0 w 990360"/>
              <a:gd name="textAreaRight" fmla="*/ 990720 w 990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24" h="544">
                <a:moveTo>
                  <a:pt x="0" y="160"/>
                </a:moveTo>
                <a:cubicBezTo>
                  <a:pt x="92" y="80"/>
                  <a:pt x="184" y="0"/>
                  <a:pt x="288" y="64"/>
                </a:cubicBezTo>
                <a:cubicBezTo>
                  <a:pt x="392" y="128"/>
                  <a:pt x="508" y="336"/>
                  <a:pt x="624" y="5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46"/>
          <p:cNvSpPr/>
          <p:nvPr/>
        </p:nvSpPr>
        <p:spPr>
          <a:xfrm>
            <a:off x="6095880" y="3962520"/>
            <a:ext cx="520920" cy="317520"/>
          </a:xfrm>
          <a:custGeom>
            <a:avLst/>
            <a:gdLst>
              <a:gd name="textAreaLeft" fmla="*/ 0 w 520920"/>
              <a:gd name="textAreaRight" fmla="*/ 521280 w 520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328" h="200">
                <a:moveTo>
                  <a:pt x="0" y="48"/>
                </a:moveTo>
                <a:cubicBezTo>
                  <a:pt x="124" y="124"/>
                  <a:pt x="248" y="200"/>
                  <a:pt x="288" y="192"/>
                </a:cubicBezTo>
                <a:cubicBezTo>
                  <a:pt x="328" y="184"/>
                  <a:pt x="248" y="32"/>
                  <a:pt x="2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6095880" y="28954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urier New"/>
              </a:rPr>
              <a:t>C = tr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8"/>
          <p:cNvSpPr/>
          <p:nvPr/>
        </p:nvSpPr>
        <p:spPr>
          <a:xfrm>
            <a:off x="5410080" y="1828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1523880" y="62485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E2F-122F-45E7-B341-9C50405E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Cut (!) Example 3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seattle) :- </a:t>
            </a:r>
            <a:r>
              <a:rPr b="0" lang="fr-FR" sz="2000" spc="-1" strike="noStrike">
                <a:solidFill>
                  <a:srgbClr val="3333cc"/>
                </a:solidFill>
                <a:latin typeface="Courier New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rainy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old(rochest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X) :- rainy(X), cold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nowy(tro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2:13:29Z</dcterms:created>
  <dc:creator/>
  <dc:description/>
  <dc:language>en-US</dc:language>
  <cp:lastModifiedBy>Carlos Varela</cp:lastModifiedBy>
  <cp:lastPrinted>2015-11-17T17:30:16Z</cp:lastPrinted>
  <dcterms:modified xsi:type="dcterms:W3CDTF">2015-11-18T18:06:58Z</dcterms:modified>
  <cp:revision>156</cp:revision>
  <dc:subject/>
  <dc:title>Data Abstraction and State Abstract Data Types (3.7) State/Data Abstraction(6.1, 6.3, 6.4.1, 6.4.2)</dc:title>
</cp:coreProperties>
</file>