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74687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64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2840" y="-360"/>
            <a:ext cx="292248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4640" y="728640"/>
            <a:ext cx="4857840" cy="36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9640" y="4614840"/>
            <a:ext cx="494532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27880"/>
            <a:ext cx="292248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2840" y="9227880"/>
            <a:ext cx="292248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0F07-FDA0-4DF1-912A-9EF352D71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E7A4-B663-4B42-87BB-A19F4E3F6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4464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899640" y="4614840"/>
            <a:ext cx="49453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7742-952E-4AD5-B6D0-643470518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4464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899640" y="4614840"/>
            <a:ext cx="4945320" cy="43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FCD4-EF00-47C7-9FC1-FC18DCEE8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4464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899640" y="4614840"/>
            <a:ext cx="4945320" cy="43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F011-FDC3-489B-9DF8-C6BE0604C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4464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899640" y="4614840"/>
            <a:ext cx="4945320" cy="43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5E35-A1C9-4C45-8012-26BA303E4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4464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899640" y="4614840"/>
            <a:ext cx="4945320" cy="43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D933-68CF-4E18-9C50-6CE842AD6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4464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899640" y="4614840"/>
            <a:ext cx="4945320" cy="43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3DB8-F957-4642-81C7-C30680B3B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4464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899640" y="4614840"/>
            <a:ext cx="4945320" cy="43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CCEC-AF59-4B94-9693-191069213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2700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90280" y="4646520"/>
            <a:ext cx="4964040" cy="433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D9C5-4B11-4DD3-9325-E7BD64F27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2700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890280" y="4646520"/>
            <a:ext cx="4964040" cy="433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C28A-EE64-4A2B-8976-99AA94536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4464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899640" y="4614840"/>
            <a:ext cx="4945320" cy="43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DE3F-F10C-4497-9BFF-C287F498A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2700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890280" y="4646520"/>
            <a:ext cx="4964040" cy="433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93B3-97D3-459C-AE3C-948C35198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2700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890280" y="4646520"/>
            <a:ext cx="4964040" cy="433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ECB4-6A31-405E-807A-837A3F3F6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2700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890280" y="4646520"/>
            <a:ext cx="4964040" cy="433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3231-B5D2-4747-A456-698DB30A3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2700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890280" y="4646520"/>
            <a:ext cx="4964040" cy="433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D963-FE55-4F52-8EB5-DBC9C1438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2700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90280" y="4646520"/>
            <a:ext cx="4964040" cy="433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04D3-92C7-4072-9611-9AF0689E0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2700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890280" y="4646520"/>
            <a:ext cx="4964040" cy="433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F428-1909-4586-82F3-C46AFD60B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2700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890280" y="4646520"/>
            <a:ext cx="4964040" cy="433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9DD4-1FF7-4950-9A26-3F1EBABEA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2700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890280" y="4646520"/>
            <a:ext cx="4964040" cy="433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E83E-F66F-4BEC-8422-ABFC88CE4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2700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890280" y="4646520"/>
            <a:ext cx="4964040" cy="433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1F37-3365-4DE3-89F4-5E8125B86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2700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890280" y="4646520"/>
            <a:ext cx="4964040" cy="433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E27A-C68D-4D16-BD87-25C8B90BB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4464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899640" y="4614840"/>
            <a:ext cx="4945320" cy="43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9047-CA22-48CD-9C0C-10368A4C4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4464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899640" y="4614840"/>
            <a:ext cx="49453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44C1-0976-4F93-B643-AD8D3A4E0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2700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890280" y="4646520"/>
            <a:ext cx="4964040" cy="433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9459-CCE3-4AC4-8CDE-AED536191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2700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890280" y="4646520"/>
            <a:ext cx="4964040" cy="433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ECBE-F91C-4EB4-A031-EE47563B9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2700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890280" y="4646520"/>
            <a:ext cx="4964040" cy="433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45EF-21BC-4478-8D5A-02E89FCED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2700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890280" y="4646520"/>
            <a:ext cx="4964040" cy="433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2C57-0D53-46BD-A137-C8E7639EE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2700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890280" y="4646520"/>
            <a:ext cx="4964040" cy="433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D8A1-1517-47F4-8492-323193670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2700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890280" y="4646520"/>
            <a:ext cx="4964040" cy="433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C267-570F-4D75-A360-F807C53F7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2700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890280" y="4646520"/>
            <a:ext cx="4964040" cy="433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7441-C115-4B2A-B73C-DD7992F47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03D7-5E0E-4DEB-ACE9-27191842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1737-F652-4167-8904-FD9B8DB9D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4A89-B373-45B2-8F25-FCB703EF1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4CE5-3852-4C54-9274-C9C54717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6395-5BF5-4580-B219-1AB8C253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5433-1128-4B9A-99BD-7908022B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0B3C-D91C-4BCF-B39F-E8D91584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42F4-4660-413F-8194-0CC57538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EBE9-A3E8-4AC6-8900-2279BDE8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BF14-41ED-49D4-A533-74B5BE91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9BD9-BB68-40D4-AE5A-001EE991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2F85-B8AD-4314-9F57-15120EFE0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6921-F3D4-4976-B3BF-CD603A2FA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1143000"/>
            <a:ext cx="8001000" cy="236232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3333cc"/>
                </a:solidFill>
                <a:latin typeface="Times New Roman"/>
              </a:rPr>
              <a:t>Concurrent Programming with SALSA (PDCS 9)</a:t>
            </a:r>
            <a:br>
              <a:rPr sz="4400"/>
            </a:br>
            <a:r>
              <a:rPr b="0" lang="sv-SE" sz="2800" spc="-1" strike="noStrike">
                <a:solidFill>
                  <a:srgbClr val="3333cc"/>
                </a:solidFill>
                <a:latin typeface="Times New Roman"/>
              </a:rPr>
              <a:t>Actors, Coordination Abstractions: </a:t>
            </a:r>
            <a:br>
              <a:rPr sz="2800"/>
            </a:br>
            <a:r>
              <a:rPr b="0" lang="sv-SE" sz="2800" spc="-1" strike="noStrike">
                <a:solidFill>
                  <a:srgbClr val="3333cc"/>
                </a:solidFill>
                <a:latin typeface="Times New Roman"/>
              </a:rPr>
              <a:t>Tokens, Join Blocks, First-Class Continuation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Carlos Var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April 20, 20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ED74-3F6D-46B0-B3DF-825BF2A3E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3333cc"/>
                </a:solidFill>
                <a:latin typeface="Times New Roman"/>
              </a:rPr>
              <a:t>Causal order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In a sequential program all execution  states are totally ord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In a concurrent program all execution states of a given actor are totally ord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The execution state of the concurrent program as a whole is partially ord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8414-22D7-44F3-B692-B9613C7F2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3333cc"/>
                </a:solidFill>
                <a:latin typeface="Times New Roman"/>
              </a:rPr>
              <a:t>Total order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In a sequential program all execution  states are totally ord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4"/>
          <p:cNvSpPr/>
          <p:nvPr/>
        </p:nvSpPr>
        <p:spPr>
          <a:xfrm>
            <a:off x="1143000" y="434340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5"/>
          <p:cNvSpPr/>
          <p:nvPr/>
        </p:nvSpPr>
        <p:spPr>
          <a:xfrm>
            <a:off x="2057400" y="434340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6"/>
          <p:cNvSpPr/>
          <p:nvPr/>
        </p:nvSpPr>
        <p:spPr>
          <a:xfrm>
            <a:off x="2971800" y="434340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7"/>
          <p:cNvSpPr/>
          <p:nvPr/>
        </p:nvSpPr>
        <p:spPr>
          <a:xfrm>
            <a:off x="3886200" y="434340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4800600" y="434340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9"/>
          <p:cNvSpPr/>
          <p:nvPr/>
        </p:nvSpPr>
        <p:spPr>
          <a:xfrm>
            <a:off x="5715000" y="434340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0"/>
          <p:cNvSpPr/>
          <p:nvPr/>
        </p:nvSpPr>
        <p:spPr>
          <a:xfrm>
            <a:off x="1066680" y="51055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2347920" y="4836960"/>
            <a:ext cx="208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Narrow"/>
              </a:rPr>
              <a:t>computation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6845400" y="4075200"/>
            <a:ext cx="131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Narrow"/>
              </a:rPr>
              <a:t>sequ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Narrow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6A8D-AF91-4242-9B96-606BBD417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3333cc"/>
                </a:solidFill>
                <a:latin typeface="Times New Roman"/>
              </a:rPr>
              <a:t>Causal order in the actor mode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In a concurrent program all execution states of a given actor are totally ord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The execution state of the concurrent program is partially ord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"/>
          <p:cNvSpPr/>
          <p:nvPr/>
        </p:nvSpPr>
        <p:spPr>
          <a:xfrm>
            <a:off x="3124080" y="358128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5"/>
          <p:cNvSpPr/>
          <p:nvPr/>
        </p:nvSpPr>
        <p:spPr>
          <a:xfrm>
            <a:off x="4038480" y="358128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6"/>
          <p:cNvSpPr/>
          <p:nvPr/>
        </p:nvSpPr>
        <p:spPr>
          <a:xfrm>
            <a:off x="4952880" y="358128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7"/>
          <p:cNvSpPr/>
          <p:nvPr/>
        </p:nvSpPr>
        <p:spPr>
          <a:xfrm>
            <a:off x="5867280" y="358128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8"/>
          <p:cNvSpPr/>
          <p:nvPr/>
        </p:nvSpPr>
        <p:spPr>
          <a:xfrm>
            <a:off x="1082520" y="598320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2363760" y="5715000"/>
            <a:ext cx="208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Narrow"/>
              </a:rPr>
              <a:t>computation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6935400" y="518148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Narrow"/>
              </a:rPr>
              <a:t>actor A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1"/>
          <p:cNvSpPr/>
          <p:nvPr/>
        </p:nvSpPr>
        <p:spPr>
          <a:xfrm>
            <a:off x="1295280" y="53341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2"/>
          <p:cNvSpPr/>
          <p:nvPr/>
        </p:nvSpPr>
        <p:spPr>
          <a:xfrm>
            <a:off x="2209680" y="53341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3"/>
          <p:cNvSpPr/>
          <p:nvPr/>
        </p:nvSpPr>
        <p:spPr>
          <a:xfrm>
            <a:off x="3124080" y="53341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4"/>
          <p:cNvSpPr/>
          <p:nvPr/>
        </p:nvSpPr>
        <p:spPr>
          <a:xfrm>
            <a:off x="4038480" y="53341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5"/>
          <p:cNvSpPr/>
          <p:nvPr/>
        </p:nvSpPr>
        <p:spPr>
          <a:xfrm>
            <a:off x="4952880" y="53341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6"/>
          <p:cNvSpPr/>
          <p:nvPr/>
        </p:nvSpPr>
        <p:spPr>
          <a:xfrm>
            <a:off x="5867280" y="53341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7"/>
          <p:cNvSpPr/>
          <p:nvPr/>
        </p:nvSpPr>
        <p:spPr>
          <a:xfrm>
            <a:off x="2057400" y="434340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8"/>
          <p:cNvSpPr/>
          <p:nvPr/>
        </p:nvSpPr>
        <p:spPr>
          <a:xfrm>
            <a:off x="2971800" y="434340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9"/>
          <p:cNvSpPr/>
          <p:nvPr/>
        </p:nvSpPr>
        <p:spPr>
          <a:xfrm>
            <a:off x="3886200" y="434340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20"/>
          <p:cNvSpPr/>
          <p:nvPr/>
        </p:nvSpPr>
        <p:spPr>
          <a:xfrm>
            <a:off x="4800600" y="434340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21"/>
          <p:cNvSpPr/>
          <p:nvPr/>
        </p:nvSpPr>
        <p:spPr>
          <a:xfrm>
            <a:off x="5715000" y="434340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22"/>
          <p:cNvSpPr/>
          <p:nvPr/>
        </p:nvSpPr>
        <p:spPr>
          <a:xfrm flipV="1">
            <a:off x="1295280" y="4343400"/>
            <a:ext cx="762120" cy="990720"/>
          </a:xfrm>
          <a:prstGeom prst="line">
            <a:avLst/>
          </a:prstGeom>
          <a:ln w="255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3"/>
          <p:cNvSpPr/>
          <p:nvPr/>
        </p:nvSpPr>
        <p:spPr>
          <a:xfrm flipV="1">
            <a:off x="2971800" y="3580920"/>
            <a:ext cx="152280" cy="762120"/>
          </a:xfrm>
          <a:prstGeom prst="line">
            <a:avLst/>
          </a:prstGeom>
          <a:ln w="255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24"/>
          <p:cNvSpPr/>
          <p:nvPr/>
        </p:nvSpPr>
        <p:spPr>
          <a:xfrm>
            <a:off x="3886200" y="4343400"/>
            <a:ext cx="152280" cy="99072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25"/>
          <p:cNvSpPr/>
          <p:nvPr/>
        </p:nvSpPr>
        <p:spPr>
          <a:xfrm flipV="1">
            <a:off x="4800600" y="3580920"/>
            <a:ext cx="1066680" cy="76212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26"/>
          <p:cNvSpPr/>
          <p:nvPr/>
        </p:nvSpPr>
        <p:spPr>
          <a:xfrm>
            <a:off x="6096960" y="426708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Narrow"/>
              </a:rPr>
              <a:t>actor A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7"/>
          <p:cNvSpPr/>
          <p:nvPr/>
        </p:nvSpPr>
        <p:spPr>
          <a:xfrm>
            <a:off x="6859080" y="327672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Narrow"/>
              </a:rPr>
              <a:t>actor A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8"/>
          <p:cNvSpPr/>
          <p:nvPr/>
        </p:nvSpPr>
        <p:spPr>
          <a:xfrm>
            <a:off x="214560" y="4456080"/>
            <a:ext cx="14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990000"/>
                </a:solidFill>
                <a:latin typeface="Arial Narrow"/>
              </a:rPr>
              <a:t>Create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990000"/>
                </a:solidFill>
                <a:latin typeface="Arial Narrow"/>
              </a:rPr>
              <a:t>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29"/>
          <p:cNvSpPr/>
          <p:nvPr/>
        </p:nvSpPr>
        <p:spPr>
          <a:xfrm>
            <a:off x="4191120" y="44197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3333cc"/>
                </a:solidFill>
                <a:latin typeface="Arial Narrow"/>
              </a:rPr>
              <a:t>Send a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2D01-7EFC-432A-A091-0EFE3CE4D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3333cc"/>
                </a:solidFill>
                <a:latin typeface="Times New Roman"/>
              </a:rPr>
              <a:t>Nondeterminism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An execution is nondeterministic if there is a computation step in which there is a choice what to do 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Nondeterminism appears naturally when there is asynchronous message pa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Messages can arrive or be processed in an order different from the sending or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8A79-4E03-492B-A598-51A331720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3333cc"/>
                </a:solidFill>
                <a:latin typeface="Times New Roman"/>
              </a:rPr>
              <a:t>Example of nondeterminism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2" name="Line 3"/>
          <p:cNvSpPr/>
          <p:nvPr/>
        </p:nvSpPr>
        <p:spPr>
          <a:xfrm>
            <a:off x="2362320" y="2133720"/>
            <a:ext cx="0" cy="2666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058480" y="4724280"/>
            <a:ext cx="6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Narrow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906560" y="152388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Narrow"/>
              </a:rPr>
              <a:t>Acto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2500560" y="31035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&lt;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1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2209680" y="3352680"/>
            <a:ext cx="228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4572000" y="2209680"/>
            <a:ext cx="0" cy="2590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4268520" y="4724280"/>
            <a:ext cx="6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Narrow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4116240" y="152388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Narrow"/>
              </a:rPr>
              <a:t>Acto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610560" y="5506920"/>
            <a:ext cx="712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Narrow"/>
              </a:rPr>
              <a:t>Actor </a:t>
            </a:r>
            <a:r>
              <a:rPr b="0" lang="sv-SE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sv-SE" sz="2400" spc="-1" strike="noStrike">
                <a:solidFill>
                  <a:srgbClr val="000000"/>
                </a:solidFill>
                <a:latin typeface="Arial Narrow"/>
              </a:rPr>
              <a:t> can receive messages </a:t>
            </a:r>
            <a:r>
              <a:rPr b="0" lang="sv-SE" sz="2400" spc="-1" strike="noStrike">
                <a:solidFill>
                  <a:srgbClr val="000000"/>
                </a:solidFill>
                <a:latin typeface="Courier New"/>
              </a:rPr>
              <a:t>m1()</a:t>
            </a:r>
            <a:r>
              <a:rPr b="0" lang="sv-SE" sz="24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0" lang="sv-SE" sz="2400" spc="-1" strike="noStrike">
                <a:solidFill>
                  <a:srgbClr val="000000"/>
                </a:solidFill>
                <a:latin typeface="Courier New"/>
              </a:rPr>
              <a:t>m2()</a:t>
            </a:r>
            <a:r>
              <a:rPr b="0" lang="sv-SE" sz="2400" spc="-1" strike="noStrike">
                <a:solidFill>
                  <a:srgbClr val="000000"/>
                </a:solidFill>
                <a:latin typeface="Arial Narrow"/>
              </a:rPr>
              <a:t> in any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4726440" y="31240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&lt;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2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4"/>
          <p:cNvSpPr/>
          <p:nvPr/>
        </p:nvSpPr>
        <p:spPr>
          <a:xfrm>
            <a:off x="7162920" y="2209680"/>
            <a:ext cx="0" cy="2667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6859080" y="4800600"/>
            <a:ext cx="6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Narrow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6707160" y="160020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Narrow"/>
              </a:rPr>
              <a:t>Act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7"/>
          <p:cNvSpPr/>
          <p:nvPr/>
        </p:nvSpPr>
        <p:spPr>
          <a:xfrm>
            <a:off x="2362320" y="3352680"/>
            <a:ext cx="480060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8"/>
          <p:cNvSpPr/>
          <p:nvPr/>
        </p:nvSpPr>
        <p:spPr>
          <a:xfrm>
            <a:off x="4572000" y="3352680"/>
            <a:ext cx="259092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93BF-D12E-4D6D-A35D-5718E2B27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cc"/>
                </a:solidFill>
                <a:latin typeface="Times New Roman"/>
              </a:rPr>
              <a:t>Coordination Primitiv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ALSA provides three main coordination constru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Token-passing continu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o synchronize concurrent activ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o notify completion of message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Named tokens enable arbitrary synchronization (data-fl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Join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sed for barrier synchronization for multiple concurrent activ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o obtain results from otherwise independent concurrent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First-class continu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o delegate producing a result to a third-party 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3972-E689-42FD-89F1-21756F9B1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oken Passing Continuation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sures that each message in the continuation expression is sent after the previous message has bee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cess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It also enables the use of a message handler return value as an argument for a later message (through the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ok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keyword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1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&lt;-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1()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2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&lt;-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2(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toke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end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m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a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asking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a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to forward the result of processing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m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a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(as the argument of message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m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61B4-6C46-4153-88B4-08018E855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amed Token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800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kens can be named to enable more loosely-coupled synchro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toke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= a1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&lt;-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m1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toke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t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= a2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&lt;-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m2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toke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t3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= a3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&lt;-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m3(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toke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t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= a4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&lt;-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m4(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t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&lt;-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m(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t1,t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t3,t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nding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m(…)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will be delayed until messages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m1()..m4()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have been processed. 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m1()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can proceed concurrently with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m2(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1" descr="Screen Shot 2014-11-11 at 12.18.21 PM.png"/>
          <p:cNvPicPr/>
          <p:nvPr/>
        </p:nvPicPr>
        <p:blipFill>
          <a:blip r:embed="rId1"/>
          <a:stretch/>
        </p:blipFill>
        <p:spPr>
          <a:xfrm>
            <a:off x="5257800" y="2286000"/>
            <a:ext cx="362268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67ED-BFA5-450C-864D-79321C036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3333cc"/>
                </a:solidFill>
                <a:latin typeface="Times New Roman"/>
              </a:rPr>
              <a:t>Causal order in the actor mode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4" name="Line 3"/>
          <p:cNvSpPr/>
          <p:nvPr/>
        </p:nvSpPr>
        <p:spPr>
          <a:xfrm>
            <a:off x="3124080" y="358128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4038480" y="358128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5"/>
          <p:cNvSpPr/>
          <p:nvPr/>
        </p:nvSpPr>
        <p:spPr>
          <a:xfrm>
            <a:off x="4952880" y="358128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6"/>
          <p:cNvSpPr/>
          <p:nvPr/>
        </p:nvSpPr>
        <p:spPr>
          <a:xfrm>
            <a:off x="5867280" y="358128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7"/>
          <p:cNvSpPr/>
          <p:nvPr/>
        </p:nvSpPr>
        <p:spPr>
          <a:xfrm>
            <a:off x="1082520" y="598320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2363760" y="5715000"/>
            <a:ext cx="208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Narrow"/>
              </a:rPr>
              <a:t>computation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6935400" y="518148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Narrow"/>
              </a:rPr>
              <a:t>actor A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0"/>
          <p:cNvSpPr/>
          <p:nvPr/>
        </p:nvSpPr>
        <p:spPr>
          <a:xfrm>
            <a:off x="1295280" y="53341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1"/>
          <p:cNvSpPr/>
          <p:nvPr/>
        </p:nvSpPr>
        <p:spPr>
          <a:xfrm>
            <a:off x="2209680" y="53341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2"/>
          <p:cNvSpPr/>
          <p:nvPr/>
        </p:nvSpPr>
        <p:spPr>
          <a:xfrm>
            <a:off x="3124080" y="53341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3"/>
          <p:cNvSpPr/>
          <p:nvPr/>
        </p:nvSpPr>
        <p:spPr>
          <a:xfrm>
            <a:off x="4038480" y="53341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14"/>
          <p:cNvSpPr/>
          <p:nvPr/>
        </p:nvSpPr>
        <p:spPr>
          <a:xfrm>
            <a:off x="4952880" y="53341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5"/>
          <p:cNvSpPr/>
          <p:nvPr/>
        </p:nvSpPr>
        <p:spPr>
          <a:xfrm>
            <a:off x="5867280" y="53341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6"/>
          <p:cNvSpPr/>
          <p:nvPr/>
        </p:nvSpPr>
        <p:spPr>
          <a:xfrm>
            <a:off x="2057400" y="434340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7"/>
          <p:cNvSpPr/>
          <p:nvPr/>
        </p:nvSpPr>
        <p:spPr>
          <a:xfrm>
            <a:off x="2971800" y="434340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8"/>
          <p:cNvSpPr/>
          <p:nvPr/>
        </p:nvSpPr>
        <p:spPr>
          <a:xfrm>
            <a:off x="3886200" y="434340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9"/>
          <p:cNvSpPr/>
          <p:nvPr/>
        </p:nvSpPr>
        <p:spPr>
          <a:xfrm>
            <a:off x="4800600" y="434340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20"/>
          <p:cNvSpPr/>
          <p:nvPr/>
        </p:nvSpPr>
        <p:spPr>
          <a:xfrm>
            <a:off x="5715000" y="434340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21"/>
          <p:cNvSpPr/>
          <p:nvPr/>
        </p:nvSpPr>
        <p:spPr>
          <a:xfrm flipV="1">
            <a:off x="1295280" y="4343400"/>
            <a:ext cx="762120" cy="990720"/>
          </a:xfrm>
          <a:prstGeom prst="line">
            <a:avLst/>
          </a:prstGeom>
          <a:ln w="255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22"/>
          <p:cNvSpPr/>
          <p:nvPr/>
        </p:nvSpPr>
        <p:spPr>
          <a:xfrm flipV="1">
            <a:off x="2971800" y="3580920"/>
            <a:ext cx="152280" cy="762120"/>
          </a:xfrm>
          <a:prstGeom prst="line">
            <a:avLst/>
          </a:prstGeom>
          <a:ln w="255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23"/>
          <p:cNvSpPr/>
          <p:nvPr/>
        </p:nvSpPr>
        <p:spPr>
          <a:xfrm>
            <a:off x="3886200" y="4343400"/>
            <a:ext cx="152280" cy="99072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24"/>
          <p:cNvSpPr/>
          <p:nvPr/>
        </p:nvSpPr>
        <p:spPr>
          <a:xfrm flipV="1">
            <a:off x="4800600" y="3580920"/>
            <a:ext cx="1066680" cy="76212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5"/>
          <p:cNvSpPr/>
          <p:nvPr/>
        </p:nvSpPr>
        <p:spPr>
          <a:xfrm>
            <a:off x="6096960" y="426708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Narrow"/>
              </a:rPr>
              <a:t>actor A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6"/>
          <p:cNvSpPr/>
          <p:nvPr/>
        </p:nvSpPr>
        <p:spPr>
          <a:xfrm>
            <a:off x="6859080" y="327672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Narrow"/>
              </a:rPr>
              <a:t>actor A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7"/>
          <p:cNvSpPr/>
          <p:nvPr/>
        </p:nvSpPr>
        <p:spPr>
          <a:xfrm>
            <a:off x="214560" y="4456080"/>
            <a:ext cx="140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990000"/>
                </a:solidFill>
                <a:latin typeface="Arial Narrow"/>
              </a:rPr>
              <a:t>create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990000"/>
                </a:solidFill>
                <a:latin typeface="Arial Narrow"/>
              </a:rPr>
              <a:t>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28"/>
          <p:cNvSpPr/>
          <p:nvPr/>
        </p:nvSpPr>
        <p:spPr>
          <a:xfrm flipV="1">
            <a:off x="2971800" y="1905120"/>
            <a:ext cx="990720" cy="914400"/>
          </a:xfrm>
          <a:prstGeom prst="line">
            <a:avLst/>
          </a:prstGeom>
          <a:ln w="25560">
            <a:solidFill>
              <a:srgbClr val="3333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9"/>
          <p:cNvSpPr/>
          <p:nvPr/>
        </p:nvSpPr>
        <p:spPr>
          <a:xfrm>
            <a:off x="1450080" y="28954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Narrow"/>
              </a:rPr>
              <a:t>bind a 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0"/>
          <p:cNvSpPr/>
          <p:nvPr/>
        </p:nvSpPr>
        <p:spPr>
          <a:xfrm>
            <a:off x="4024800" y="163656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Narrow"/>
              </a:rPr>
              <a:t>synchronize on a 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1"/>
          <p:cNvSpPr/>
          <p:nvPr/>
        </p:nvSpPr>
        <p:spPr>
          <a:xfrm>
            <a:off x="4938840" y="3618000"/>
            <a:ext cx="3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3333cc"/>
                </a:solidFill>
                <a:latin typeface="Arial Narro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2"/>
          <p:cNvSpPr/>
          <p:nvPr/>
        </p:nvSpPr>
        <p:spPr>
          <a:xfrm>
            <a:off x="3948480" y="4456080"/>
            <a:ext cx="3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3333cc"/>
                </a:solidFill>
                <a:latin typeface="Arial Narrow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09E4-1CF6-460B-8F60-041C09793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ell Tester Exampl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modul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cel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behavi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CellTester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voi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ac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String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] args 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Cel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c =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new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Cell(</a:t>
            </a:r>
            <a:r>
              <a:rPr b="1" lang="ja-JP" sz="1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ello</a:t>
            </a:r>
            <a:r>
              <a:rPr b="1" lang="ja-JP" sz="14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ndardOutput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&lt;-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( </a:t>
            </a:r>
            <a:r>
              <a:rPr b="1" lang="ja-JP" sz="14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l Value:</a:t>
            </a:r>
            <a:r>
              <a:rPr b="1" lang="ja-JP" sz="14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@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&lt;-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get()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@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ndardOutput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&lt;-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ln(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toke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@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&lt;-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set(</a:t>
            </a:r>
            <a:r>
              <a:rPr b="1" lang="ja-JP" sz="1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orld</a:t>
            </a:r>
            <a:r>
              <a:rPr b="1" lang="ja-JP" sz="14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@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ndardOutput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&lt;-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( </a:t>
            </a:r>
            <a:r>
              <a:rPr b="1" lang="ja-JP" sz="14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ew Value:</a:t>
            </a:r>
            <a:r>
              <a:rPr b="1" lang="ja-JP" sz="14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@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&lt;-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get()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@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ndardOutput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&lt;-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ln(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toke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5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68F2-38AD-4E66-A046-CE404C1F9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7924680" cy="99072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ctors/SALSA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7320" y="1281240"/>
            <a:ext cx="487692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or Mod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reasoning framework to model concurrent computa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gramming abstractions for distributed ope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. Agha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ctors: A Model of Concurrent Computation in Distributed System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IT Press, 198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mple Actor Language System an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 actor-oriented language for mobile and internet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gramming abstractions for internet-based concurrency, distribution, mobility, and coord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Varela and G. Agha,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ramming dynamically reconfigurable open systems with SALSA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CM SIGPLAN Notices, OOPSLA 2001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6(12), pp 20-3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rcRect l="21692" t="21694" r="30956" b="731"/>
          <a:stretch/>
        </p:blipFill>
        <p:spPr>
          <a:xfrm>
            <a:off x="5479920" y="1281240"/>
            <a:ext cx="3664080" cy="450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9856-CC8E-4622-81CC-2DF08B051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ell Tester Example with Named Token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modu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el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behavi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okenCellTester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void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ac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String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rgs[]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Cel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c = new Cell("Hello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oke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0 = standardOutput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-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("Initial Value: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oke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t0 = c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-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e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oke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1 = standardOutput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-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ln(t0)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:waitf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p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oke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t1 = c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-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set("World")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:waitf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t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oke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2 = standardOutput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-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rint("New Value:")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:waitf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p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oke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t2 = c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-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get()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:waitf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t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ndardOutput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-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rintln(t2)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:waitf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p2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0799-7F3E-4B31-8962-10607EA4A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19040" y="216000"/>
            <a:ext cx="7772400" cy="85392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Join Block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a mechanism for synchronizing the processing of a set of messa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of results is sent along as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oke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ing an array of resul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tor[] actors = { searcher0, searcher1,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earcher2, searcher3 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join {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=0; i &lt; actors.length; i++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tors[i]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&lt;-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find( phrase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} @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resultActor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&lt;-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output(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toke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nd the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find( phrase )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message to each actor in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actors[]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then after all have completed send the result to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resultActo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as the argument of an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output( … )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mess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5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908F-5448-434B-974C-61AAD641B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2" descr="join"/>
          <p:cNvPicPr/>
          <p:nvPr/>
        </p:nvPicPr>
        <p:blipFill>
          <a:blip r:embed="rId1"/>
          <a:stretch/>
        </p:blipFill>
        <p:spPr>
          <a:xfrm>
            <a:off x="1511280" y="2860560"/>
            <a:ext cx="6032520" cy="341316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xample: Acknowledged Multicas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294680" cy="8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join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1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&lt;-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1(); a2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&lt;-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2(); … an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&lt;-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n(); }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st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&lt;-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n(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toke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80D0-9BA9-4177-B1C8-B438AF172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ines of Code Comparis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224" name="Group 3"/>
          <p:cNvGrpSpPr/>
          <p:nvPr/>
        </p:nvGrpSpPr>
        <p:grpSpPr>
          <a:xfrm>
            <a:off x="431640" y="3068640"/>
            <a:ext cx="8229600" cy="1035000"/>
            <a:chOff x="431640" y="3068640"/>
            <a:chExt cx="8229600" cy="1035000"/>
          </a:xfrm>
        </p:grpSpPr>
        <p:sp>
          <p:nvSpPr>
            <p:cNvPr id="225" name="Rectangle 4"/>
            <p:cNvSpPr/>
            <p:nvPr/>
          </p:nvSpPr>
          <p:spPr>
            <a:xfrm>
              <a:off x="7067520" y="3586320"/>
              <a:ext cx="15937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Rectangle 5"/>
            <p:cNvSpPr/>
            <p:nvPr/>
          </p:nvSpPr>
          <p:spPr>
            <a:xfrm>
              <a:off x="5518080" y="3586320"/>
              <a:ext cx="15494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6"/>
            <p:cNvSpPr/>
            <p:nvPr/>
          </p:nvSpPr>
          <p:spPr>
            <a:xfrm>
              <a:off x="4475160" y="3586320"/>
              <a:ext cx="10429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6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Rectangle 7"/>
            <p:cNvSpPr/>
            <p:nvPr/>
          </p:nvSpPr>
          <p:spPr>
            <a:xfrm>
              <a:off x="431640" y="3586320"/>
              <a:ext cx="40435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cknowledged Multica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Rectangle 8"/>
            <p:cNvSpPr/>
            <p:nvPr/>
          </p:nvSpPr>
          <p:spPr>
            <a:xfrm>
              <a:off x="7067520" y="3068640"/>
              <a:ext cx="15937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AL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9"/>
            <p:cNvSpPr/>
            <p:nvPr/>
          </p:nvSpPr>
          <p:spPr>
            <a:xfrm>
              <a:off x="5518080" y="3068640"/>
              <a:ext cx="15494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ound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10"/>
            <p:cNvSpPr/>
            <p:nvPr/>
          </p:nvSpPr>
          <p:spPr>
            <a:xfrm>
              <a:off x="4475160" y="3068640"/>
              <a:ext cx="10429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Jav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11"/>
            <p:cNvSpPr/>
            <p:nvPr/>
          </p:nvSpPr>
          <p:spPr>
            <a:xfrm>
              <a:off x="431640" y="3068640"/>
              <a:ext cx="40435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12"/>
            <p:cNvSpPr/>
            <p:nvPr/>
          </p:nvSpPr>
          <p:spPr>
            <a:xfrm>
              <a:off x="431640" y="3068640"/>
              <a:ext cx="8229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13"/>
            <p:cNvSpPr/>
            <p:nvPr/>
          </p:nvSpPr>
          <p:spPr>
            <a:xfrm>
              <a:off x="431640" y="358632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14"/>
            <p:cNvSpPr/>
            <p:nvPr/>
          </p:nvSpPr>
          <p:spPr>
            <a:xfrm>
              <a:off x="431640" y="4103640"/>
              <a:ext cx="8229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15"/>
            <p:cNvSpPr/>
            <p:nvPr/>
          </p:nvSpPr>
          <p:spPr>
            <a:xfrm>
              <a:off x="431640" y="3068640"/>
              <a:ext cx="0" cy="1035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16"/>
            <p:cNvSpPr/>
            <p:nvPr/>
          </p:nvSpPr>
          <p:spPr>
            <a:xfrm>
              <a:off x="4475160" y="3068640"/>
              <a:ext cx="0" cy="10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17"/>
            <p:cNvSpPr/>
            <p:nvPr/>
          </p:nvSpPr>
          <p:spPr>
            <a:xfrm>
              <a:off x="5518080" y="3068640"/>
              <a:ext cx="0" cy="10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18"/>
            <p:cNvSpPr/>
            <p:nvPr/>
          </p:nvSpPr>
          <p:spPr>
            <a:xfrm>
              <a:off x="7067520" y="3068640"/>
              <a:ext cx="0" cy="10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19"/>
            <p:cNvSpPr/>
            <p:nvPr/>
          </p:nvSpPr>
          <p:spPr>
            <a:xfrm>
              <a:off x="8661240" y="3068640"/>
              <a:ext cx="0" cy="1035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C4FF-4762-4819-B20F-7EC4E4326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irst Class Continuation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able actors to delegate computation to a third party independently of the processing contex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m(…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&lt;-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n(…)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@ currentContinua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sk (delegate) actor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to respond to this message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on behalf of current actor (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sel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 by processing its own message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2704-3683-4D50-A76B-DF4EC5583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elegate Exampl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modu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bonacc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behavi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lculato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fi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int n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 =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ne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bonacci(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 compute()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@ currentContinua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ad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int n1, int n2) {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n1+n2;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a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String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gs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[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b(15)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@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ndardOutput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&lt;-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rintln(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toke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b(5)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@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(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toke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3)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@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ndardOutput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&lt;-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rintln(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toke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61C7-E890-4DE3-A295-FCA8290C6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ibonacci Exampl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modu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fibonacci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behavi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Fibonacci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ibonacci(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n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n = n;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add(int x, int y) {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x + y;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compute(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 (n == 0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lse if (n &lt;= 2)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ibonacci fib1 =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Fibonacci(n-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ibonacci fib2 =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Fibonacci(n-2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toke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x = fib1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&lt;-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mpute()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toke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y = fib2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&lt;-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mpute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dd(x,y)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@ currentContinua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act(String args[]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= Integer.parseInt(args[0]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mpute()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@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standardOutput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&lt;-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ntln(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toke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CA4E-38CD-4865-9654-546404D92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ibonacci Example 2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848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modul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fibonacci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behavi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Fibonacci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add(int x, int y) {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x + y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compute(int n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n == 0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 if (n &lt;= 2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ibonacci fib =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new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Fibonacci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toke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x = fib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&lt;-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pute(n-1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pute(n-2)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@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add(x,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toke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@ currentContinuatio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voi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act(String args[]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n = Integer.parseInt(args[0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pute(n)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@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standardOutput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&lt;-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ln(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toke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A944-0BCC-4E14-A939-3EDE9CCE3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3333cc"/>
                </a:solidFill>
                <a:latin typeface="Times New Roman"/>
              </a:rPr>
              <a:t>Execution of </a:t>
            </a:r>
            <a:br>
              <a:rPr sz="4400"/>
            </a:br>
            <a:r>
              <a:rPr b="0" lang="sv-SE" sz="4400" spc="-1" strike="noStrike">
                <a:solidFill>
                  <a:srgbClr val="3333cc"/>
                </a:solidFill>
                <a:latin typeface="Courier New"/>
              </a:rPr>
              <a:t>salsa Fibonacci 6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0" name="Line 3"/>
          <p:cNvSpPr/>
          <p:nvPr/>
        </p:nvSpPr>
        <p:spPr>
          <a:xfrm>
            <a:off x="304920" y="6172200"/>
            <a:ext cx="5943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4"/>
          <p:cNvSpPr/>
          <p:nvPr/>
        </p:nvSpPr>
        <p:spPr>
          <a:xfrm>
            <a:off x="1143000" y="4419720"/>
            <a:ext cx="4114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5"/>
          <p:cNvSpPr/>
          <p:nvPr/>
        </p:nvSpPr>
        <p:spPr>
          <a:xfrm>
            <a:off x="1905120" y="3048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6"/>
          <p:cNvSpPr/>
          <p:nvPr/>
        </p:nvSpPr>
        <p:spPr>
          <a:xfrm flipV="1">
            <a:off x="685800" y="4419720"/>
            <a:ext cx="457200" cy="17524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5257800" y="4419720"/>
            <a:ext cx="457200" cy="1752480"/>
          </a:xfrm>
          <a:prstGeom prst="line">
            <a:avLst/>
          </a:prstGeom>
          <a:ln cap="rnd" w="25560">
            <a:solidFill>
              <a:srgbClr val="99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8"/>
          <p:cNvSpPr/>
          <p:nvPr/>
        </p:nvSpPr>
        <p:spPr>
          <a:xfrm flipV="1">
            <a:off x="1523880" y="3048120"/>
            <a:ext cx="381240" cy="137160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9"/>
          <p:cNvSpPr/>
          <p:nvPr/>
        </p:nvSpPr>
        <p:spPr>
          <a:xfrm>
            <a:off x="4648320" y="3124080"/>
            <a:ext cx="380880" cy="1295640"/>
          </a:xfrm>
          <a:prstGeom prst="line">
            <a:avLst/>
          </a:prstGeom>
          <a:ln cap="rnd" w="25560">
            <a:solidFill>
              <a:srgbClr val="99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10"/>
          <p:cNvSpPr/>
          <p:nvPr/>
        </p:nvSpPr>
        <p:spPr>
          <a:xfrm>
            <a:off x="1676520" y="548640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1"/>
          <p:cNvSpPr/>
          <p:nvPr/>
        </p:nvSpPr>
        <p:spPr>
          <a:xfrm flipV="1">
            <a:off x="1447920" y="5486040"/>
            <a:ext cx="228600" cy="68580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12"/>
          <p:cNvSpPr/>
          <p:nvPr/>
        </p:nvSpPr>
        <p:spPr>
          <a:xfrm>
            <a:off x="3429000" y="5486400"/>
            <a:ext cx="304920" cy="685800"/>
          </a:xfrm>
          <a:prstGeom prst="line">
            <a:avLst/>
          </a:prstGeom>
          <a:ln cap="rnd" w="25560">
            <a:solidFill>
              <a:srgbClr val="99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3"/>
          <p:cNvSpPr/>
          <p:nvPr/>
        </p:nvSpPr>
        <p:spPr>
          <a:xfrm>
            <a:off x="2209680" y="4952880"/>
            <a:ext cx="762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14"/>
          <p:cNvSpPr/>
          <p:nvPr/>
        </p:nvSpPr>
        <p:spPr>
          <a:xfrm flipV="1">
            <a:off x="1981080" y="4952880"/>
            <a:ext cx="228600" cy="53352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15"/>
          <p:cNvSpPr/>
          <p:nvPr/>
        </p:nvSpPr>
        <p:spPr>
          <a:xfrm>
            <a:off x="2971800" y="4952880"/>
            <a:ext cx="228600" cy="53352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6"/>
          <p:cNvSpPr/>
          <p:nvPr/>
        </p:nvSpPr>
        <p:spPr>
          <a:xfrm>
            <a:off x="290160" y="5726160"/>
            <a:ext cx="4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 Narrow"/>
              </a:rPr>
              <a:t>F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17"/>
          <p:cNvSpPr/>
          <p:nvPr/>
        </p:nvSpPr>
        <p:spPr>
          <a:xfrm>
            <a:off x="991800" y="3962520"/>
            <a:ext cx="4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 Narrow"/>
              </a:rPr>
              <a:t>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8"/>
          <p:cNvSpPr/>
          <p:nvPr/>
        </p:nvSpPr>
        <p:spPr>
          <a:xfrm>
            <a:off x="915480" y="5715000"/>
            <a:ext cx="4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 Narrow"/>
              </a:rPr>
              <a:t>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9"/>
          <p:cNvSpPr/>
          <p:nvPr/>
        </p:nvSpPr>
        <p:spPr>
          <a:xfrm>
            <a:off x="1677600" y="5715000"/>
            <a:ext cx="4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 Narrow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20"/>
          <p:cNvSpPr/>
          <p:nvPr/>
        </p:nvSpPr>
        <p:spPr>
          <a:xfrm>
            <a:off x="1677600" y="5105520"/>
            <a:ext cx="4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 Narrow"/>
              </a:rPr>
              <a:t>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21"/>
          <p:cNvSpPr/>
          <p:nvPr/>
        </p:nvSpPr>
        <p:spPr>
          <a:xfrm>
            <a:off x="2363400" y="4572000"/>
            <a:ext cx="4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 Narrow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22"/>
          <p:cNvSpPr/>
          <p:nvPr/>
        </p:nvSpPr>
        <p:spPr>
          <a:xfrm>
            <a:off x="2439720" y="5029200"/>
            <a:ext cx="4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 Narrow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23"/>
          <p:cNvSpPr/>
          <p:nvPr/>
        </p:nvSpPr>
        <p:spPr>
          <a:xfrm>
            <a:off x="2438280" y="2362320"/>
            <a:ext cx="1752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24"/>
          <p:cNvSpPr/>
          <p:nvPr/>
        </p:nvSpPr>
        <p:spPr>
          <a:xfrm flipV="1">
            <a:off x="2209680" y="2361960"/>
            <a:ext cx="228600" cy="68580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25"/>
          <p:cNvSpPr/>
          <p:nvPr/>
        </p:nvSpPr>
        <p:spPr>
          <a:xfrm>
            <a:off x="4191120" y="2362320"/>
            <a:ext cx="152280" cy="685800"/>
          </a:xfrm>
          <a:prstGeom prst="line">
            <a:avLst/>
          </a:prstGeom>
          <a:ln cap="rnd" w="25560">
            <a:solidFill>
              <a:srgbClr val="99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26"/>
          <p:cNvSpPr/>
          <p:nvPr/>
        </p:nvSpPr>
        <p:spPr>
          <a:xfrm>
            <a:off x="2971800" y="1828800"/>
            <a:ext cx="762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27"/>
          <p:cNvSpPr/>
          <p:nvPr/>
        </p:nvSpPr>
        <p:spPr>
          <a:xfrm flipV="1">
            <a:off x="2819520" y="1828800"/>
            <a:ext cx="152280" cy="53352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28"/>
          <p:cNvSpPr/>
          <p:nvPr/>
        </p:nvSpPr>
        <p:spPr>
          <a:xfrm>
            <a:off x="3733920" y="1828800"/>
            <a:ext cx="228600" cy="533520"/>
          </a:xfrm>
          <a:prstGeom prst="line">
            <a:avLst/>
          </a:prstGeom>
          <a:ln cap="rnd" w="25560">
            <a:solidFill>
              <a:srgbClr val="99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29"/>
          <p:cNvSpPr/>
          <p:nvPr/>
        </p:nvSpPr>
        <p:spPr>
          <a:xfrm>
            <a:off x="2439720" y="2590920"/>
            <a:ext cx="4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 Narrow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0"/>
          <p:cNvSpPr/>
          <p:nvPr/>
        </p:nvSpPr>
        <p:spPr>
          <a:xfrm>
            <a:off x="2439720" y="1981080"/>
            <a:ext cx="4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 Narrow"/>
              </a:rPr>
              <a:t>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1"/>
          <p:cNvSpPr/>
          <p:nvPr/>
        </p:nvSpPr>
        <p:spPr>
          <a:xfrm>
            <a:off x="3125520" y="1447920"/>
            <a:ext cx="4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 Narrow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32"/>
          <p:cNvSpPr/>
          <p:nvPr/>
        </p:nvSpPr>
        <p:spPr>
          <a:xfrm>
            <a:off x="3201480" y="1905120"/>
            <a:ext cx="4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 Narrow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3"/>
          <p:cNvSpPr/>
          <p:nvPr/>
        </p:nvSpPr>
        <p:spPr>
          <a:xfrm>
            <a:off x="1829880" y="2590920"/>
            <a:ext cx="4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 Narrow"/>
              </a:rPr>
              <a:t>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34"/>
          <p:cNvSpPr/>
          <p:nvPr/>
        </p:nvSpPr>
        <p:spPr>
          <a:xfrm>
            <a:off x="2362320" y="388620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35"/>
          <p:cNvSpPr/>
          <p:nvPr/>
        </p:nvSpPr>
        <p:spPr>
          <a:xfrm flipV="1">
            <a:off x="2209680" y="3886200"/>
            <a:ext cx="152640" cy="53352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36"/>
          <p:cNvSpPr/>
          <p:nvPr/>
        </p:nvSpPr>
        <p:spPr>
          <a:xfrm>
            <a:off x="3124080" y="3886200"/>
            <a:ext cx="228600" cy="533520"/>
          </a:xfrm>
          <a:prstGeom prst="line">
            <a:avLst/>
          </a:prstGeom>
          <a:ln cap="rnd" w="25560">
            <a:solidFill>
              <a:srgbClr val="99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37"/>
          <p:cNvSpPr/>
          <p:nvPr/>
        </p:nvSpPr>
        <p:spPr>
          <a:xfrm>
            <a:off x="2592000" y="3962520"/>
            <a:ext cx="4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 Narrow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38"/>
          <p:cNvSpPr/>
          <p:nvPr/>
        </p:nvSpPr>
        <p:spPr>
          <a:xfrm>
            <a:off x="1753920" y="3962520"/>
            <a:ext cx="4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 Narrow"/>
              </a:rPr>
              <a:t>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9"/>
          <p:cNvSpPr/>
          <p:nvPr/>
        </p:nvSpPr>
        <p:spPr>
          <a:xfrm>
            <a:off x="2439720" y="3429000"/>
            <a:ext cx="4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 Narrow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Oval 40"/>
          <p:cNvSpPr/>
          <p:nvPr/>
        </p:nvSpPr>
        <p:spPr>
          <a:xfrm>
            <a:off x="3886200" y="2286000"/>
            <a:ext cx="152280" cy="152280"/>
          </a:xfrm>
          <a:prstGeom prst="ellipse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Oval 41"/>
          <p:cNvSpPr/>
          <p:nvPr/>
        </p:nvSpPr>
        <p:spPr>
          <a:xfrm>
            <a:off x="4267080" y="2971800"/>
            <a:ext cx="152640" cy="152280"/>
          </a:xfrm>
          <a:prstGeom prst="ellipse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Oval 42"/>
          <p:cNvSpPr/>
          <p:nvPr/>
        </p:nvSpPr>
        <p:spPr>
          <a:xfrm>
            <a:off x="4952880" y="4343400"/>
            <a:ext cx="152640" cy="152280"/>
          </a:xfrm>
          <a:prstGeom prst="ellipse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Oval 43"/>
          <p:cNvSpPr/>
          <p:nvPr/>
        </p:nvSpPr>
        <p:spPr>
          <a:xfrm>
            <a:off x="5638680" y="6095880"/>
            <a:ext cx="152640" cy="152640"/>
          </a:xfrm>
          <a:prstGeom prst="ellipse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Oval 44"/>
          <p:cNvSpPr/>
          <p:nvPr/>
        </p:nvSpPr>
        <p:spPr>
          <a:xfrm>
            <a:off x="3657600" y="6095880"/>
            <a:ext cx="152280" cy="152640"/>
          </a:xfrm>
          <a:prstGeom prst="ellipse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Oval 45"/>
          <p:cNvSpPr/>
          <p:nvPr/>
        </p:nvSpPr>
        <p:spPr>
          <a:xfrm>
            <a:off x="3124080" y="5410080"/>
            <a:ext cx="152640" cy="152640"/>
          </a:xfrm>
          <a:prstGeom prst="ellipse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Oval 46"/>
          <p:cNvSpPr/>
          <p:nvPr/>
        </p:nvSpPr>
        <p:spPr>
          <a:xfrm>
            <a:off x="3276720" y="4343400"/>
            <a:ext cx="152280" cy="152280"/>
          </a:xfrm>
          <a:prstGeom prst="ellipse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47"/>
          <p:cNvSpPr/>
          <p:nvPr/>
        </p:nvSpPr>
        <p:spPr>
          <a:xfrm>
            <a:off x="7162920" y="205740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48"/>
          <p:cNvSpPr/>
          <p:nvPr/>
        </p:nvSpPr>
        <p:spPr>
          <a:xfrm flipV="1">
            <a:off x="7010280" y="2057400"/>
            <a:ext cx="152640" cy="53352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49"/>
          <p:cNvSpPr/>
          <p:nvPr/>
        </p:nvSpPr>
        <p:spPr>
          <a:xfrm>
            <a:off x="6705720" y="266688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50"/>
          <p:cNvSpPr/>
          <p:nvPr/>
        </p:nvSpPr>
        <p:spPr>
          <a:xfrm>
            <a:off x="6631200" y="1523880"/>
            <a:ext cx="208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Narrow"/>
              </a:rPr>
              <a:t>Create new 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51"/>
          <p:cNvSpPr/>
          <p:nvPr/>
        </p:nvSpPr>
        <p:spPr>
          <a:xfrm>
            <a:off x="7010280" y="3886200"/>
            <a:ext cx="762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52"/>
          <p:cNvSpPr/>
          <p:nvPr/>
        </p:nvSpPr>
        <p:spPr>
          <a:xfrm>
            <a:off x="7772400" y="3886200"/>
            <a:ext cx="228600" cy="533520"/>
          </a:xfrm>
          <a:prstGeom prst="line">
            <a:avLst/>
          </a:prstGeom>
          <a:ln cap="rnd" w="25560">
            <a:solidFill>
              <a:srgbClr val="99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Oval 53"/>
          <p:cNvSpPr/>
          <p:nvPr/>
        </p:nvSpPr>
        <p:spPr>
          <a:xfrm>
            <a:off x="7924680" y="4343400"/>
            <a:ext cx="152640" cy="152280"/>
          </a:xfrm>
          <a:prstGeom prst="ellipse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54"/>
          <p:cNvSpPr/>
          <p:nvPr/>
        </p:nvSpPr>
        <p:spPr>
          <a:xfrm>
            <a:off x="6705720" y="4419720"/>
            <a:ext cx="1600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55"/>
          <p:cNvSpPr/>
          <p:nvPr/>
        </p:nvSpPr>
        <p:spPr>
          <a:xfrm>
            <a:off x="6403320" y="2971800"/>
            <a:ext cx="190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Narrow"/>
              </a:rPr>
              <a:t>Synchronize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Narrow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56"/>
          <p:cNvSpPr/>
          <p:nvPr/>
        </p:nvSpPr>
        <p:spPr>
          <a:xfrm>
            <a:off x="6553080" y="53341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57"/>
          <p:cNvSpPr/>
          <p:nvPr/>
        </p:nvSpPr>
        <p:spPr>
          <a:xfrm>
            <a:off x="6539760" y="468468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Narrow"/>
              </a:rPr>
              <a:t>Non-blocked 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4B04-6109-4944-82DF-BB38290D3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7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wnload and execut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ellTester.sals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kenCellTester.sals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7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a solution to the Flavius Josephus problem in SALSA.  A description of the problem is at CTM Section 7.8.3 (page 55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7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DCS Exercise 9.6.1 (page 203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7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DCS Exercise 9.6.6 (page 204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5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8663-FD4D-46C8-9877-BB1B61622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" descr="salsarch copy"/>
          <p:cNvPicPr/>
          <p:nvPr/>
        </p:nvPicPr>
        <p:blipFill>
          <a:blip r:embed="rId1"/>
          <a:stretch/>
        </p:blipFill>
        <p:spPr>
          <a:xfrm>
            <a:off x="2514600" y="1752480"/>
            <a:ext cx="3362400" cy="31766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ALSA and Java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4952880"/>
            <a:ext cx="8229600" cy="15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SA source files are compiled into Java source files before being compiled into Java byte co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SA programs may take full advantage of the Java AP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BB7B-FBE2-4E59-8146-0665CAD84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Hello World Exampl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modu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elloworl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behavi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elloWorl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a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] args 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ndardOutput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&lt;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( "Hello" )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@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ndardOutput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&lt;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ln( "World!"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781E-02E4-43D9-AD3D-5B1FE4192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Hello World Exampl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3333cc"/>
                </a:solidFill>
                <a:latin typeface="Courier New"/>
              </a:rPr>
              <a:t>a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 String[] args 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ssage handler is similar to the </a:t>
            </a:r>
            <a:r>
              <a:rPr b="0" lang="en-US" sz="2400" spc="-1" strike="noStrike">
                <a:solidFill>
                  <a:srgbClr val="3333cc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…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in Java and is used to bootstrap SALSA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ALSA program is executed, an actor of the given behavior is created and an </a:t>
            </a:r>
            <a:r>
              <a:rPr b="0" lang="en-US" sz="2400" spc="-1" strike="noStrike">
                <a:solidFill>
                  <a:srgbClr val="3333cc"/>
                </a:solidFill>
                <a:latin typeface="Courier New"/>
              </a:rPr>
              <a:t>a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arg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ssage is sent to this actor with any given command-line argu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s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ndardOutput, standardInpu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standard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ors are available to all SALSA 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B03F-FFC9-4C7A-A893-E982C1B23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ALSA Support for Actor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ers defi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havi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s are sent asynchronou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 is modeled as encapsulated objects/primitive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s are modeled as potential method inv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ation primitives are used for coordin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E18A-5CB8-47CB-955B-B4450ED96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ference Cell Exampl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modu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e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behavi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ell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Obj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onte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Cel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Obj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nitialContent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ent = initialConten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Obj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{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ontent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Obj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newContent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ent = newConte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6836-F7B7-4CF5-81E9-F030096BC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ctor Crea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n act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avelAgent a =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TravelAge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73E6-CDBC-4C89-AAB3-46CE3679E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essage Sendin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n act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avelAgent a =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TravelAge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end a mess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-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book( flight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arlos Varela</cp:lastModifiedBy>
  <cp:lastPrinted>2014-11-11T17:41:40Z</cp:lastPrinted>
  <dcterms:modified xsi:type="dcterms:W3CDTF">2015-04-20T22:56:32Z</dcterms:modified>
  <cp:revision>72</cp:revision>
  <dc:subject/>
  <dc:title>Data Abstraction and State Abstract Data Types (3.7) State/Data Abstraction(6.1, 6.3, 6.4.1, 6.4.2)</dc:title>
</cp:coreProperties>
</file>